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</p:sldIdLst>
  <p:sldSz cx="9907588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796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448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4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796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448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5B560B-518C-4DD8-8B4E-F33058BCCFA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E88F2-C250-417C-B8D6-09AE1124D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AB17D-E77D-414E-972F-36DC969F4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54F77C-5C16-4805-8D6D-6554867D9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1868-41B7-4E0D-96A8-6746013BC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35000" y="60120"/>
            <a:ext cx="969336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C434A-42FD-4DCD-99F3-633CD377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19146-F3B5-4174-8779-34F511EEB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E5D5B-5164-44DA-9665-349C76F81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652D4-1838-4E4B-8B99-59487D497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F3606-8155-49CA-AF74-A49374734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0AD6AC-65AC-4567-9F91-89DD387CD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796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448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44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796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448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F086E9-847C-4C2E-956D-3D358F8FDBC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DA14A-BB79-402C-87C9-8D5D4A14180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85BE3-BCA2-4E3B-9696-2F309EBBC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6099B9-89A5-41B2-A3F7-B713E5A00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6E57DE-7C47-4593-8AC8-6E4839CA9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E5FF84-F7B4-4D5A-B7E7-52BD03C51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35000" y="60120"/>
            <a:ext cx="969336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D7FDFD-F0AC-4523-9622-6974FC17B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ED2777-47E3-4B93-8920-0C731800E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81123F-1B9E-46F5-B88E-8F14DF41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D9C616-2B67-4EA1-A5D8-58BACB2BA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54F215-2F51-4525-9C6D-98A12266A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2C6488-E5DB-4673-9B48-AE3BE7AD4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796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6448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1144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796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6448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FA1162-A649-4543-994F-AD0BDE0096A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1F54A-9E2F-4100-8BAE-9F4F32AAAE4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48BB5-708D-4373-99D7-C4A57A28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C723E-9917-44DB-821B-9C79380B4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3AF2B-4FFE-4AB5-A6C9-43E1B6159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EE3EB-A265-46EE-A8AC-A09087923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35000" y="60120"/>
            <a:ext cx="969336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B87B7-B641-4D82-B6F8-24D4ACB7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A149E-B442-40CD-8B96-D23DB61BC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DEC4A-596F-4A8E-9BE0-70434D80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97A1-AD15-4B43-AFB1-600F20B9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CECE8-B528-4264-8137-41A265AD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C306-65FD-496F-9DF4-FED39F85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3796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6448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1144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3796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6448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27446-00A7-4D6F-9EF3-97FF17DAC89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6F5AD1-C587-4336-BBA4-CEDCCD1FF6F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3A307F-C2AD-4093-9926-4707A63EA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2275BE-C0E5-4423-84E4-1A4D5FC39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6AFABC-C1F5-4965-8E51-8D8DE796A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7F8A53-F228-4AD0-9E2D-E512E52B3C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135000" y="60120"/>
            <a:ext cx="969336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3924D25-367A-465C-AF7C-E03AB036A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CF4291-D3D8-4E6D-AA54-B3D39CE5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96DB6D-014F-4F06-8131-B40BA832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18906F-B50C-4E00-82C1-5FD7C4FDE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9844A1-2E63-4E6D-BC8D-42A2E3E25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39ED7A-3A24-4BB9-9BE8-6BE26094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000" y="60120"/>
            <a:ext cx="969336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3796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6448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1144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3796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6448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8D330C9-6491-4D51-9D04-F4F51D6B98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EE0D33D-130D-4F4C-BA85-CCFDF525E6A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35D636-00C4-4828-8446-7ED2E2718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2BD423-580D-4FBD-8CFC-B0F4AB587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A743CE5-5B80-4A0F-82BC-5AAB85E9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7E9F68-E52E-4635-8192-B9CA765B6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135000" y="60120"/>
            <a:ext cx="969336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7DC96B-82E8-4D74-B292-791AC4AB5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4B2803-8100-4926-A2C5-9AFF29BCE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7C189-CF31-41CD-A9A9-CAAF65E17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441A7D-D155-4A0F-9FF3-E36449C33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EC84ACC-CB38-4585-A6AB-D0D58F573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24FFCA8-DC38-4C71-9337-179D47838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3796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6448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1144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3796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6448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E6A780E-9129-4B26-8164-2E37F251630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C20008-10B8-4DA5-B7C1-A267E20CDF1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8BF4FC-7603-456D-8352-8FEED0B8B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07DDA-99F0-4579-BE26-FBEC3C5D1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7179C8-7132-4544-9ECD-98CBDEAC5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FA144E-1227-4D93-A06D-F06F1A007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135000" y="60120"/>
            <a:ext cx="969336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3D7EC-E46F-4C9B-9756-8A5F0678B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27FD-EAF9-4B7F-9B07-5ABAE5CAD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B9EE8-DA3A-404A-A39C-D9CBE8595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00415-F63F-4D53-AC42-4840C202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10E35-6715-4B40-99EB-36F964C7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59613-F412-419F-B54F-4A323565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3796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6448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1144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3796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6448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DE76B-4F8C-41F5-91F1-E59F1DF4835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5E05B-DA54-4BF6-B28C-EC2B367773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8B45C-D260-47F3-A5D9-FB08A9E39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B5D647-C514-4A09-86F7-E16E1735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5087F6-95E8-4736-A7B8-772733C2C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89621D-E967-4B05-B7EC-9A58050D4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135000" y="60120"/>
            <a:ext cx="9693360" cy="218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A3FC3-B2BF-4B8B-B704-19C8D0AB1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FBC88B8-BFAB-40BE-B851-FEDD5085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D09F35-C26B-494E-8164-3302DE570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7B4CD70-8F2D-4FEF-8914-50ED6A22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114480" y="3596040"/>
            <a:ext cx="965664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BB6C3A-E70B-4839-B450-EFE24D216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63040" y="6764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448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5063040" y="3596040"/>
            <a:ext cx="471240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F8979F-4494-4B29-8CDE-62B0482D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35000" y="58680"/>
            <a:ext cx="9693360" cy="47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44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3796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644880" y="6764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1144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3796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644880" y="3596040"/>
            <a:ext cx="3109320" cy="266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DEC4BD-F735-42B3-9BF1-5E433A4168A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000" y="60120"/>
            <a:ext cx="9693360" cy="47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800" spc="-1" strike="noStrike">
                <a:solidFill>
                  <a:srgbClr val="fafd00"/>
                </a:solidFill>
                <a:latin typeface="Century Gothic"/>
              </a:rPr>
              <a:t>Click to edit the title text format</a:t>
            </a:r>
            <a:endParaRPr b="1" lang="en-US" sz="2800" spc="-1" strike="noStrike">
              <a:solidFill>
                <a:srgbClr val="fafd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4480" y="676440"/>
            <a:ext cx="9656640" cy="558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3"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4"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5"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6"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"/>
          <p:cNvSpPr/>
          <p:nvPr/>
        </p:nvSpPr>
        <p:spPr>
          <a:xfrm>
            <a:off x="87480" y="6357960"/>
            <a:ext cx="9758160" cy="1440"/>
          </a:xfrm>
          <a:prstGeom prst="line">
            <a:avLst/>
          </a:prstGeom>
          <a:ln w="25560">
            <a:solidFill>
              <a:srgbClr val="fc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"/>
          <p:cNvSpPr/>
          <p:nvPr/>
        </p:nvSpPr>
        <p:spPr>
          <a:xfrm>
            <a:off x="8193240" y="6404040"/>
            <a:ext cx="151272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GB" sz="1600" spc="-1" strike="noStrike">
                <a:solidFill>
                  <a:srgbClr val="ffffff"/>
                </a:solidFill>
                <a:latin typeface="Century Gothic"/>
              </a:rPr>
              <a:t>© 2009  MIPH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"/>
          <p:cNvSpPr/>
          <p:nvPr/>
        </p:nvSpPr>
        <p:spPr>
          <a:xfrm>
            <a:off x="9273240" y="228600"/>
            <a:ext cx="91764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64837EC-2201-4645-94CA-1E4E9758AB63}" type="slidenum">
              <a:rPr b="1" i="1" lang="en-GB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"/>
          <p:cNvSpPr/>
          <p:nvPr/>
        </p:nvSpPr>
        <p:spPr>
          <a:xfrm>
            <a:off x="87480" y="603360"/>
            <a:ext cx="9666000" cy="6120"/>
          </a:xfrm>
          <a:prstGeom prst="line">
            <a:avLst/>
          </a:prstGeom>
          <a:ln w="25560">
            <a:solidFill>
              <a:srgbClr val="fc01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128520"/>
            <a:ext cx="8913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9536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" name=""/>
          <p:cNvSpPr/>
          <p:nvPr/>
        </p:nvSpPr>
        <p:spPr>
          <a:xfrm>
            <a:off x="3384720" y="630864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2"/>
          </p:nvPr>
        </p:nvSpPr>
        <p:spPr>
          <a:xfrm>
            <a:off x="709920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7D651-0F65-41F6-BB80-3188983A99FE}" type="slidenum"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95360" y="128520"/>
            <a:ext cx="8913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3"/>
          </p:nvPr>
        </p:nvSpPr>
        <p:spPr>
          <a:xfrm>
            <a:off x="49536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"/>
          <p:cNvSpPr/>
          <p:nvPr/>
        </p:nvSpPr>
        <p:spPr>
          <a:xfrm>
            <a:off x="3384720" y="630864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709920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7DEDDF-B0A0-4F1B-9C22-C172629A2AF3}" type="slidenum"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360" y="128520"/>
            <a:ext cx="8913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5"/>
          </p:nvPr>
        </p:nvSpPr>
        <p:spPr>
          <a:xfrm>
            <a:off x="49536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"/>
          <p:cNvSpPr/>
          <p:nvPr/>
        </p:nvSpPr>
        <p:spPr>
          <a:xfrm>
            <a:off x="3384720" y="630864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sldNum" idx="6"/>
          </p:nvPr>
        </p:nvSpPr>
        <p:spPr>
          <a:xfrm>
            <a:off x="709920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B8F985-39D8-4FFF-8378-D758392B0B03}" type="slidenum"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95360" y="128520"/>
            <a:ext cx="8913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7"/>
          </p:nvPr>
        </p:nvSpPr>
        <p:spPr>
          <a:xfrm>
            <a:off x="49536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"/>
          <p:cNvSpPr/>
          <p:nvPr/>
        </p:nvSpPr>
        <p:spPr>
          <a:xfrm>
            <a:off x="3384720" y="630864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8"/>
          </p:nvPr>
        </p:nvSpPr>
        <p:spPr>
          <a:xfrm>
            <a:off x="709920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B4A7C-71A7-44F5-A993-132F39E5F6EE}" type="slidenum"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95360" y="128520"/>
            <a:ext cx="8913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9"/>
          </p:nvPr>
        </p:nvSpPr>
        <p:spPr>
          <a:xfrm>
            <a:off x="49536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"/>
          <p:cNvSpPr/>
          <p:nvPr/>
        </p:nvSpPr>
        <p:spPr>
          <a:xfrm>
            <a:off x="3384720" y="630864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0"/>
          </p:nvPr>
        </p:nvSpPr>
        <p:spPr>
          <a:xfrm>
            <a:off x="709920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D5E6A-C1F0-4ABE-A1D2-8119A4E7D0C0}" type="slidenum"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95360" y="128520"/>
            <a:ext cx="8913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1"/>
          </p:nvPr>
        </p:nvSpPr>
        <p:spPr>
          <a:xfrm>
            <a:off x="49536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"/>
          <p:cNvSpPr/>
          <p:nvPr/>
        </p:nvSpPr>
        <p:spPr>
          <a:xfrm>
            <a:off x="3384720" y="630864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2"/>
          </p:nvPr>
        </p:nvSpPr>
        <p:spPr>
          <a:xfrm>
            <a:off x="709920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F8CBA8-5429-4487-8156-667DD986E087}" type="slidenum"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95360" y="128520"/>
            <a:ext cx="8913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95360" y="1600200"/>
            <a:ext cx="8913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3"/>
          </p:nvPr>
        </p:nvSpPr>
        <p:spPr>
          <a:xfrm>
            <a:off x="49536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date/time&gt;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"/>
          <p:cNvSpPr/>
          <p:nvPr/>
        </p:nvSpPr>
        <p:spPr>
          <a:xfrm>
            <a:off x="3384720" y="6308640"/>
            <a:ext cx="31366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14"/>
          </p:nvPr>
        </p:nvSpPr>
        <p:spPr>
          <a:xfrm>
            <a:off x="7099200" y="6356160"/>
            <a:ext cx="23097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C8434A-CC64-415A-A97F-16A612C1132B}" type="slidenum">
              <a:rPr b="1" i="1" lang="en-US" sz="1200" spc="-1" strike="noStrike">
                <a:solidFill>
                  <a:srgbClr val="898989"/>
                </a:solidFill>
                <a:latin typeface="Times New Roman"/>
                <a:ea typeface="Lucida Sans Unicode"/>
              </a:rPr>
              <a:t>&lt;number&gt;</a:t>
            </a:fld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9.jpeg"/><Relationship Id="rId11" Type="http://schemas.openxmlformats.org/officeDocument/2006/relationships/image" Target="../media/image10.jpe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14280" y="147600"/>
            <a:ext cx="924732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afd00"/>
                </a:solidFill>
                <a:latin typeface="Calibri"/>
                <a:ea typeface="Calibri"/>
              </a:rPr>
              <a:t>The 6 </a:t>
            </a:r>
            <a:r>
              <a:rPr b="1" i="1" lang="fr-FR" sz="2800" spc="-1" strike="noStrike">
                <a:solidFill>
                  <a:srgbClr val="fafd00"/>
                </a:solidFill>
                <a:latin typeface="Calibri"/>
                <a:ea typeface="Calibri"/>
              </a:rPr>
              <a:t>Strategic</a:t>
            </a:r>
            <a:r>
              <a:rPr b="1" i="1" lang="fr-FR" sz="2800" spc="-1" strike="noStrike">
                <a:solidFill>
                  <a:srgbClr val="fafd00"/>
                </a:solidFill>
                <a:latin typeface="Calibri"/>
                <a:ea typeface="Calibri"/>
              </a:rPr>
              <a:t> W’s of Health &amp; Sanity</a:t>
            </a:r>
            <a:endParaRPr b="1" i="1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"/>
          <p:cNvSpPr/>
          <p:nvPr/>
        </p:nvSpPr>
        <p:spPr>
          <a:xfrm>
            <a:off x="200160" y="696960"/>
            <a:ext cx="9577080" cy="5616360"/>
          </a:xfrm>
          <a:prstGeom prst="rect">
            <a:avLst/>
          </a:prstGeom>
          <a:solidFill>
            <a:srgbClr val="ffffff"/>
          </a:solidFill>
          <a:ln w="5724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1" name=""/>
          <p:cNvSpPr/>
          <p:nvPr/>
        </p:nvSpPr>
        <p:spPr>
          <a:xfrm>
            <a:off x="1739880" y="692280"/>
            <a:ext cx="1440" cy="56894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"/>
          <p:cNvSpPr/>
          <p:nvPr/>
        </p:nvSpPr>
        <p:spPr>
          <a:xfrm>
            <a:off x="3325680" y="692280"/>
            <a:ext cx="1800" cy="56894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"/>
          <p:cNvSpPr/>
          <p:nvPr/>
        </p:nvSpPr>
        <p:spPr>
          <a:xfrm>
            <a:off x="4737240" y="692280"/>
            <a:ext cx="1440" cy="56894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4" name=""/>
          <p:cNvSpPr/>
          <p:nvPr/>
        </p:nvSpPr>
        <p:spPr>
          <a:xfrm>
            <a:off x="6032520" y="692280"/>
            <a:ext cx="1440" cy="56894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5" name=""/>
          <p:cNvSpPr/>
          <p:nvPr/>
        </p:nvSpPr>
        <p:spPr>
          <a:xfrm>
            <a:off x="7256520" y="692280"/>
            <a:ext cx="1440" cy="56894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"/>
          <p:cNvSpPr/>
          <p:nvPr/>
        </p:nvSpPr>
        <p:spPr>
          <a:xfrm>
            <a:off x="200160" y="1413000"/>
            <a:ext cx="9648720" cy="14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"/>
          <p:cNvSpPr/>
          <p:nvPr/>
        </p:nvSpPr>
        <p:spPr>
          <a:xfrm>
            <a:off x="200160" y="2492280"/>
            <a:ext cx="9648720" cy="1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"/>
          <p:cNvSpPr/>
          <p:nvPr/>
        </p:nvSpPr>
        <p:spPr>
          <a:xfrm>
            <a:off x="200160" y="3300480"/>
            <a:ext cx="9648720" cy="14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"/>
          <p:cNvSpPr/>
          <p:nvPr/>
        </p:nvSpPr>
        <p:spPr>
          <a:xfrm>
            <a:off x="200160" y="4221000"/>
            <a:ext cx="9648720" cy="1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"/>
          <p:cNvSpPr/>
          <p:nvPr/>
        </p:nvSpPr>
        <p:spPr>
          <a:xfrm>
            <a:off x="200160" y="4941720"/>
            <a:ext cx="9648720" cy="180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"/>
          <p:cNvSpPr/>
          <p:nvPr/>
        </p:nvSpPr>
        <p:spPr>
          <a:xfrm>
            <a:off x="200160" y="5661000"/>
            <a:ext cx="9648720" cy="1440"/>
          </a:xfrm>
          <a:prstGeom prst="line">
            <a:avLst/>
          </a:prstGeom>
          <a:ln w="2556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"/>
          <p:cNvSpPr/>
          <p:nvPr/>
        </p:nvSpPr>
        <p:spPr>
          <a:xfrm>
            <a:off x="592200" y="3251160"/>
            <a:ext cx="122220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200" spc="-1" strike="noStrike">
                <a:solidFill>
                  <a:srgbClr val="333333"/>
                </a:solidFill>
                <a:latin typeface="Calibri"/>
                <a:ea typeface="Calibri"/>
              </a:rPr>
              <a:t>Improve Cardio-Fitness: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200" spc="-1" strike="noStrike">
                <a:solidFill>
                  <a:srgbClr val="333333"/>
                </a:solidFill>
                <a:latin typeface="Calibri"/>
                <a:ea typeface="Calibri"/>
              </a:rPr>
              <a:t>CF  = ______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200" spc="-1" strike="noStrike">
                <a:solidFill>
                  <a:srgbClr val="333333"/>
                </a:solidFill>
                <a:latin typeface="Calibri"/>
                <a:ea typeface="Calibri"/>
              </a:rPr>
              <a:t>RHR = ______</a:t>
            </a:r>
            <a:endParaRPr b="1" i="1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"/>
          <p:cNvSpPr/>
          <p:nvPr/>
        </p:nvSpPr>
        <p:spPr>
          <a:xfrm>
            <a:off x="738720" y="26370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1" i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TG:HDL ___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"/>
          <p:cNvSpPr/>
          <p:nvPr/>
        </p:nvSpPr>
        <p:spPr>
          <a:xfrm>
            <a:off x="697320" y="299736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  </a:t>
            </a:r>
            <a:r>
              <a:rPr b="1" i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BP___ /___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"/>
          <p:cNvSpPr/>
          <p:nvPr/>
        </p:nvSpPr>
        <p:spPr>
          <a:xfrm>
            <a:off x="867960" y="566244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333333"/>
                </a:solidFill>
                <a:latin typeface="Calibri"/>
                <a:ea typeface="Calibri"/>
              </a:rPr>
              <a:t>Better</a:t>
            </a:r>
            <a:endParaRPr b="1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333333"/>
                </a:solidFill>
                <a:latin typeface="Calibri"/>
                <a:ea typeface="Calibri"/>
              </a:rPr>
              <a:t>Sleep</a:t>
            </a:r>
            <a:endParaRPr b="1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"/>
          <p:cNvSpPr/>
          <p:nvPr/>
        </p:nvSpPr>
        <p:spPr>
          <a:xfrm>
            <a:off x="753480" y="4294080"/>
            <a:ext cx="97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333333"/>
                </a:solidFill>
                <a:latin typeface="Calibri"/>
                <a:ea typeface="Calibri"/>
              </a:rPr>
              <a:t>Pain-Free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333333"/>
                </a:solidFill>
                <a:latin typeface="Calibri"/>
                <a:ea typeface="Calibri"/>
              </a:rPr>
              <a:t>Back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rcRect l="48514" t="15482" r="14018" b="25698"/>
          <a:stretch/>
        </p:blipFill>
        <p:spPr>
          <a:xfrm>
            <a:off x="270000" y="4254480"/>
            <a:ext cx="528480" cy="66852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/>
          <p:nvPr/>
        </p:nvSpPr>
        <p:spPr>
          <a:xfrm>
            <a:off x="799920" y="5014800"/>
            <a:ext cx="91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333333"/>
                </a:solidFill>
                <a:latin typeface="Calibri"/>
                <a:ea typeface="Calibri"/>
              </a:rPr>
              <a:t>Tension</a:t>
            </a:r>
            <a:endParaRPr b="1" i="1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333333"/>
                </a:solidFill>
                <a:latin typeface="Calibri"/>
                <a:ea typeface="Calibri"/>
              </a:rPr>
              <a:t>Control</a:t>
            </a:r>
            <a:endParaRPr b="1" i="1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9" name=""/>
          <p:cNvSpPr/>
          <p:nvPr/>
        </p:nvSpPr>
        <p:spPr>
          <a:xfrm>
            <a:off x="8624880" y="692280"/>
            <a:ext cx="1440" cy="5689440"/>
          </a:xfrm>
          <a:prstGeom prst="line">
            <a:avLst/>
          </a:prstGeom>
          <a:ln w="28440">
            <a:solidFill>
              <a:srgbClr val="3333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0" name="" descr=""/>
          <p:cNvPicPr/>
          <p:nvPr/>
        </p:nvPicPr>
        <p:blipFill>
          <a:blip r:embed="rId3"/>
          <a:srcRect l="4623" t="6860" r="6495" b="6221"/>
          <a:stretch/>
        </p:blipFill>
        <p:spPr>
          <a:xfrm>
            <a:off x="274680" y="5699160"/>
            <a:ext cx="547560" cy="5382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279360" y="4989600"/>
            <a:ext cx="576360" cy="6429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075040" y="841320"/>
            <a:ext cx="6697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Water</a:t>
            </a:r>
            <a:r>
              <a:rPr b="1" i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	</a:t>
            </a:r>
            <a:r>
              <a:rPr b="1" i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         Walking            Wine        Work-Out        Wind  </a:t>
            </a:r>
            <a:r>
              <a:rPr b="1" i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	</a:t>
            </a:r>
            <a:r>
              <a:rPr b="1" i="1" lang="fr-FR" sz="2000" spc="-1" strike="noStrike">
                <a:solidFill>
                  <a:srgbClr val="333333"/>
                </a:solidFill>
                <a:latin typeface="Calibri"/>
                <a:ea typeface="Calibri"/>
              </a:rPr>
              <a:t>       </a:t>
            </a:r>
            <a:endParaRPr b="1" i="1" lang="en-US" sz="2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5"/>
          <a:srcRect l="42186" t="15356" r="8949" b="0"/>
          <a:stretch/>
        </p:blipFill>
        <p:spPr>
          <a:xfrm>
            <a:off x="355680" y="776160"/>
            <a:ext cx="550800" cy="57312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95400" y="6429240"/>
            <a:ext cx="9739080" cy="3574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85840"/>
                <a:tab algn="l" pos="1200240"/>
                <a:tab algn="l" pos="2114640"/>
                <a:tab algn="l" pos="3029040"/>
                <a:tab algn="l" pos="3943440"/>
                <a:tab algn="l" pos="4857840"/>
                <a:tab algn="l" pos="5772240"/>
                <a:tab algn="l" pos="6686640"/>
                <a:tab algn="l" pos="7601040"/>
                <a:tab algn="l" pos="8515440"/>
                <a:tab algn="l" pos="9429840"/>
                <a:tab algn="l" pos="10344240"/>
                <a:tab algn="l" pos="1078236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i="1" lang="en-US" sz="1600" spc="-1" strike="noStrike">
                <a:solidFill>
                  <a:srgbClr val="fafd00"/>
                </a:solidFill>
                <a:latin typeface="Calibri"/>
              </a:rPr>
              <a:t>Leader’s  Health Challenge (LHC), © 2011  MGI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5" name=""/>
          <p:cNvSpPr/>
          <p:nvPr/>
        </p:nvSpPr>
        <p:spPr>
          <a:xfrm>
            <a:off x="620640" y="6464160"/>
            <a:ext cx="32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fafd00"/>
                </a:solidFill>
                <a:latin typeface="Calibri"/>
                <a:ea typeface="Calibri"/>
              </a:rPr>
              <a:t>Contact: Michael.Mcgannon@insead.edu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"/>
          <p:cNvSpPr/>
          <p:nvPr/>
        </p:nvSpPr>
        <p:spPr>
          <a:xfrm>
            <a:off x="6110280" y="4154400"/>
            <a:ext cx="13240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Indian Squat (5X)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Knee-to-Chest (30”)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Yog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"/>
          <p:cNvSpPr/>
          <p:nvPr/>
        </p:nvSpPr>
        <p:spPr>
          <a:xfrm>
            <a:off x="4818240" y="2502000"/>
            <a:ext cx="13064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Red wine/grapes/te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</a:rPr>
              <a:t>Consume egg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Oily Fish , </a:t>
            </a: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Hemp/Flax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Black Chocolat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"/>
          <p:cNvSpPr/>
          <p:nvPr/>
        </p:nvSpPr>
        <p:spPr>
          <a:xfrm>
            <a:off x="1789200" y="1417680"/>
            <a:ext cx="16714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2 glasses H2O before meal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 Soft/Fruit Drinks: </a:t>
            </a:r>
            <a:r>
              <a:rPr b="1" i="1" lang="fr-FR" sz="1000" spc="-1" strike="noStrike">
                <a:solidFill>
                  <a:srgbClr val="ff0000"/>
                </a:solidFill>
                <a:latin typeface="Calibri"/>
                <a:ea typeface="Calibri"/>
              </a:rPr>
              <a:t>HFCS!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Fruits between meal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 « Whites »:  low GI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9" name=""/>
          <p:cNvSpPr/>
          <p:nvPr/>
        </p:nvSpPr>
        <p:spPr>
          <a:xfrm>
            <a:off x="3368520" y="1413000"/>
            <a:ext cx="1513080" cy="10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15 Min after meal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edometer: 5k / 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eekend Hikes: &gt;10k/d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"/>
          <p:cNvSpPr/>
          <p:nvPr/>
        </p:nvSpPr>
        <p:spPr>
          <a:xfrm>
            <a:off x="4853160" y="1432080"/>
            <a:ext cx="107928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Red wine &gt; beer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arlic Extract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1" name=""/>
          <p:cNvSpPr/>
          <p:nvPr/>
        </p:nvSpPr>
        <p:spPr>
          <a:xfrm>
            <a:off x="6138720" y="1413000"/>
            <a:ext cx="1043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Longevity Tabl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2" name=""/>
          <p:cNvSpPr/>
          <p:nvPr/>
        </p:nvSpPr>
        <p:spPr>
          <a:xfrm>
            <a:off x="8653320" y="749160"/>
            <a:ext cx="10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333333"/>
                </a:solidFill>
                <a:latin typeface="Calibri"/>
                <a:ea typeface="Calibri"/>
              </a:rPr>
              <a:t>Worry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600" spc="-1" strike="noStrike">
                <a:solidFill>
                  <a:srgbClr val="333333"/>
                </a:solidFill>
                <a:latin typeface="Calibri"/>
                <a:ea typeface="Calibri"/>
              </a:rPr>
              <a:t>Effectively</a:t>
            </a:r>
            <a:endParaRPr b="1" i="1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"/>
          <p:cNvSpPr/>
          <p:nvPr/>
        </p:nvSpPr>
        <p:spPr>
          <a:xfrm>
            <a:off x="8729640" y="4906800"/>
            <a:ext cx="111780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Relax with </a:t>
            </a: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Yog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rite a LifePLa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DABD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4" name=""/>
          <p:cNvSpPr/>
          <p:nvPr/>
        </p:nvSpPr>
        <p:spPr>
          <a:xfrm>
            <a:off x="920880" y="749160"/>
            <a:ext cx="79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900" spc="-1" strike="noStrike">
                <a:solidFill>
                  <a:srgbClr val="333333"/>
                </a:solidFill>
                <a:latin typeface="Calibri"/>
                <a:ea typeface="Calibri"/>
              </a:rPr>
              <a:t>Key to Success:</a:t>
            </a:r>
            <a:endParaRPr b="1" i="1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900" spc="-1" strike="noStrike">
                <a:solidFill>
                  <a:srgbClr val="333333"/>
                </a:solidFill>
                <a:latin typeface="Calibri"/>
                <a:ea typeface="Calibri"/>
              </a:rPr>
              <a:t>Use the MGI </a:t>
            </a:r>
            <a:endParaRPr b="1" i="1" lang="en-US" sz="900" spc="-1" strike="noStrike">
              <a:solidFill>
                <a:srgbClr val="ffffff"/>
              </a:solidFill>
              <a:latin typeface="Century Gothic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900" spc="-1" strike="noStrike">
                <a:solidFill>
                  <a:srgbClr val="333333"/>
                </a:solidFill>
                <a:latin typeface="Calibri"/>
                <a:ea typeface="Calibri"/>
              </a:rPr>
              <a:t>Weekly Log</a:t>
            </a:r>
            <a:endParaRPr b="1" i="1" lang="en-US" sz="9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"/>
          <p:cNvSpPr/>
          <p:nvPr/>
        </p:nvSpPr>
        <p:spPr>
          <a:xfrm>
            <a:off x="377280" y="1623960"/>
            <a:ext cx="1355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Body Fat ____%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6"/>
          <a:stretch/>
        </p:blipFill>
        <p:spPr>
          <a:xfrm>
            <a:off x="254160" y="1674720"/>
            <a:ext cx="233280" cy="25560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442800" y="2063880"/>
            <a:ext cx="103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400" spc="-1" strike="noStrike">
                <a:solidFill>
                  <a:srgbClr val="333333"/>
                </a:solidFill>
                <a:latin typeface="Calibri"/>
                <a:ea typeface="Calibri"/>
              </a:rPr>
              <a:t>WHR _____</a:t>
            </a:r>
            <a:endParaRPr b="1" i="1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7"/>
          <a:stretch/>
        </p:blipFill>
        <p:spPr>
          <a:xfrm>
            <a:off x="254160" y="2082960"/>
            <a:ext cx="233280" cy="2556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/>
          <p:nvPr/>
        </p:nvSpPr>
        <p:spPr>
          <a:xfrm>
            <a:off x="1779480" y="153180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"/>
          <p:cNvSpPr/>
          <p:nvPr/>
        </p:nvSpPr>
        <p:spPr>
          <a:xfrm>
            <a:off x="1779480" y="1762200"/>
            <a:ext cx="87480" cy="10296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"/>
          <p:cNvSpPr/>
          <p:nvPr/>
        </p:nvSpPr>
        <p:spPr>
          <a:xfrm>
            <a:off x="1779480" y="199548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2" name=""/>
          <p:cNvSpPr/>
          <p:nvPr/>
        </p:nvSpPr>
        <p:spPr>
          <a:xfrm>
            <a:off x="1779480" y="223524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"/>
          <p:cNvSpPr/>
          <p:nvPr/>
        </p:nvSpPr>
        <p:spPr>
          <a:xfrm>
            <a:off x="3354480" y="1542960"/>
            <a:ext cx="87120" cy="1033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"/>
          <p:cNvSpPr/>
          <p:nvPr/>
        </p:nvSpPr>
        <p:spPr>
          <a:xfrm>
            <a:off x="3354480" y="177480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"/>
          <p:cNvSpPr/>
          <p:nvPr/>
        </p:nvSpPr>
        <p:spPr>
          <a:xfrm>
            <a:off x="3354480" y="198756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6" name=""/>
          <p:cNvSpPr/>
          <p:nvPr/>
        </p:nvSpPr>
        <p:spPr>
          <a:xfrm>
            <a:off x="4794120" y="155736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"/>
          <p:cNvSpPr/>
          <p:nvPr/>
        </p:nvSpPr>
        <p:spPr>
          <a:xfrm>
            <a:off x="4794120" y="177804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"/>
          <p:cNvSpPr/>
          <p:nvPr/>
        </p:nvSpPr>
        <p:spPr>
          <a:xfrm>
            <a:off x="6089760" y="155736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9" name=""/>
          <p:cNvSpPr/>
          <p:nvPr/>
        </p:nvSpPr>
        <p:spPr>
          <a:xfrm>
            <a:off x="6089760" y="1787400"/>
            <a:ext cx="8712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8"/>
          <a:stretch/>
        </p:blipFill>
        <p:spPr>
          <a:xfrm>
            <a:off x="635040" y="2668680"/>
            <a:ext cx="233280" cy="25560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9"/>
          <a:stretch/>
        </p:blipFill>
        <p:spPr>
          <a:xfrm>
            <a:off x="630360" y="3029040"/>
            <a:ext cx="234720" cy="25560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089760" y="258444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"/>
          <p:cNvSpPr/>
          <p:nvPr/>
        </p:nvSpPr>
        <p:spPr>
          <a:xfrm>
            <a:off x="6089760" y="348300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4" name=""/>
          <p:cNvSpPr/>
          <p:nvPr/>
        </p:nvSpPr>
        <p:spPr>
          <a:xfrm>
            <a:off x="6089760" y="3713040"/>
            <a:ext cx="8712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"/>
          <p:cNvSpPr/>
          <p:nvPr/>
        </p:nvSpPr>
        <p:spPr>
          <a:xfrm>
            <a:off x="6089760" y="394488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"/>
          <p:cNvSpPr/>
          <p:nvPr/>
        </p:nvSpPr>
        <p:spPr>
          <a:xfrm>
            <a:off x="6089760" y="427680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"/>
          <p:cNvSpPr/>
          <p:nvPr/>
        </p:nvSpPr>
        <p:spPr>
          <a:xfrm>
            <a:off x="6089760" y="450864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"/>
          <p:cNvSpPr/>
          <p:nvPr/>
        </p:nvSpPr>
        <p:spPr>
          <a:xfrm>
            <a:off x="6089760" y="5030640"/>
            <a:ext cx="8712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"/>
          <p:cNvSpPr/>
          <p:nvPr/>
        </p:nvSpPr>
        <p:spPr>
          <a:xfrm>
            <a:off x="6089760" y="523872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0" name=""/>
          <p:cNvSpPr/>
          <p:nvPr/>
        </p:nvSpPr>
        <p:spPr>
          <a:xfrm>
            <a:off x="6089760" y="5460840"/>
            <a:ext cx="8712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1" name=""/>
          <p:cNvSpPr/>
          <p:nvPr/>
        </p:nvSpPr>
        <p:spPr>
          <a:xfrm>
            <a:off x="6089760" y="5700600"/>
            <a:ext cx="8712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"/>
          <p:cNvSpPr/>
          <p:nvPr/>
        </p:nvSpPr>
        <p:spPr>
          <a:xfrm>
            <a:off x="6089760" y="592452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3" name=""/>
          <p:cNvSpPr/>
          <p:nvPr/>
        </p:nvSpPr>
        <p:spPr>
          <a:xfrm>
            <a:off x="6089760" y="612144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4" name=""/>
          <p:cNvSpPr/>
          <p:nvPr/>
        </p:nvSpPr>
        <p:spPr>
          <a:xfrm>
            <a:off x="7348680" y="2584440"/>
            <a:ext cx="8712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"/>
          <p:cNvSpPr/>
          <p:nvPr/>
        </p:nvSpPr>
        <p:spPr>
          <a:xfrm>
            <a:off x="7386480" y="503064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6" name=""/>
          <p:cNvSpPr/>
          <p:nvPr/>
        </p:nvSpPr>
        <p:spPr>
          <a:xfrm>
            <a:off x="7386480" y="522936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"/>
          <p:cNvSpPr/>
          <p:nvPr/>
        </p:nvSpPr>
        <p:spPr>
          <a:xfrm>
            <a:off x="8688240" y="503064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8" name=""/>
          <p:cNvSpPr/>
          <p:nvPr/>
        </p:nvSpPr>
        <p:spPr>
          <a:xfrm>
            <a:off x="8688240" y="525780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"/>
          <p:cNvSpPr/>
          <p:nvPr/>
        </p:nvSpPr>
        <p:spPr>
          <a:xfrm>
            <a:off x="8688240" y="547992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0" name=""/>
          <p:cNvSpPr/>
          <p:nvPr/>
        </p:nvSpPr>
        <p:spPr>
          <a:xfrm>
            <a:off x="8688240" y="583884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"/>
          <p:cNvSpPr/>
          <p:nvPr/>
        </p:nvSpPr>
        <p:spPr>
          <a:xfrm>
            <a:off x="8688240" y="606420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2" name=""/>
          <p:cNvSpPr/>
          <p:nvPr/>
        </p:nvSpPr>
        <p:spPr>
          <a:xfrm>
            <a:off x="1779480" y="260352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3" name=""/>
          <p:cNvSpPr/>
          <p:nvPr/>
        </p:nvSpPr>
        <p:spPr>
          <a:xfrm>
            <a:off x="1779480" y="275904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"/>
          <p:cNvSpPr/>
          <p:nvPr/>
        </p:nvSpPr>
        <p:spPr>
          <a:xfrm>
            <a:off x="1779480" y="292428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5" name=""/>
          <p:cNvSpPr/>
          <p:nvPr/>
        </p:nvSpPr>
        <p:spPr>
          <a:xfrm>
            <a:off x="1779480" y="362592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"/>
          <p:cNvSpPr/>
          <p:nvPr/>
        </p:nvSpPr>
        <p:spPr>
          <a:xfrm>
            <a:off x="1779480" y="508464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7" name=""/>
          <p:cNvSpPr/>
          <p:nvPr/>
        </p:nvSpPr>
        <p:spPr>
          <a:xfrm>
            <a:off x="1779480" y="531504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8" name=""/>
          <p:cNvSpPr/>
          <p:nvPr/>
        </p:nvSpPr>
        <p:spPr>
          <a:xfrm>
            <a:off x="1779480" y="571644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"/>
          <p:cNvSpPr/>
          <p:nvPr/>
        </p:nvSpPr>
        <p:spPr>
          <a:xfrm>
            <a:off x="3368520" y="263700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"/>
          <p:cNvSpPr/>
          <p:nvPr/>
        </p:nvSpPr>
        <p:spPr>
          <a:xfrm>
            <a:off x="3368520" y="362592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1" name=""/>
          <p:cNvSpPr/>
          <p:nvPr/>
        </p:nvSpPr>
        <p:spPr>
          <a:xfrm>
            <a:off x="4784760" y="3639960"/>
            <a:ext cx="8712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2" name=""/>
          <p:cNvSpPr/>
          <p:nvPr/>
        </p:nvSpPr>
        <p:spPr>
          <a:xfrm>
            <a:off x="3368520" y="508464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"/>
          <p:cNvSpPr/>
          <p:nvPr/>
        </p:nvSpPr>
        <p:spPr>
          <a:xfrm>
            <a:off x="3368520" y="531036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"/>
          <p:cNvSpPr/>
          <p:nvPr/>
        </p:nvSpPr>
        <p:spPr>
          <a:xfrm>
            <a:off x="3368520" y="571644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5" name=""/>
          <p:cNvSpPr/>
          <p:nvPr/>
        </p:nvSpPr>
        <p:spPr>
          <a:xfrm>
            <a:off x="4794120" y="527220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6" name=""/>
          <p:cNvSpPr/>
          <p:nvPr/>
        </p:nvSpPr>
        <p:spPr>
          <a:xfrm>
            <a:off x="3392640" y="2502000"/>
            <a:ext cx="1439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edometer: 5k / 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"/>
          <p:cNvSpPr/>
          <p:nvPr/>
        </p:nvSpPr>
        <p:spPr>
          <a:xfrm>
            <a:off x="3392640" y="3508200"/>
            <a:ext cx="1295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 Walking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"/>
          <p:cNvSpPr/>
          <p:nvPr/>
        </p:nvSpPr>
        <p:spPr>
          <a:xfrm>
            <a:off x="3392640" y="4956120"/>
            <a:ext cx="12952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15 Min post meal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edometer: 5k / 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9" name=""/>
          <p:cNvSpPr/>
          <p:nvPr/>
        </p:nvSpPr>
        <p:spPr>
          <a:xfrm>
            <a:off x="1828800" y="2540160"/>
            <a:ext cx="14828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Tea &gt; coffe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 Soft Drinks: </a:t>
            </a:r>
            <a:r>
              <a:rPr b="1" i="1" lang="fr-FR" sz="1000" spc="-1" strike="noStrike">
                <a:solidFill>
                  <a:srgbClr val="ff0000"/>
                </a:solidFill>
                <a:latin typeface="Calibri"/>
                <a:ea typeface="Calibri"/>
              </a:rPr>
              <a:t>HFCS !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 « Whites »:  low GI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arlic Extract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0" name=""/>
          <p:cNvSpPr/>
          <p:nvPr/>
        </p:nvSpPr>
        <p:spPr>
          <a:xfrm>
            <a:off x="1798560" y="3552840"/>
            <a:ext cx="149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ater: before, during &amp; after exercise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"/>
          <p:cNvSpPr/>
          <p:nvPr/>
        </p:nvSpPr>
        <p:spPr>
          <a:xfrm>
            <a:off x="1798560" y="4975200"/>
            <a:ext cx="12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Water, 6 glasses/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Decrease caffein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2" name=""/>
          <p:cNvSpPr/>
          <p:nvPr/>
        </p:nvSpPr>
        <p:spPr>
          <a:xfrm>
            <a:off x="6138720" y="3360600"/>
            <a:ext cx="1079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Jumping Rop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ym: 90 mn/wk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3" name=""/>
          <p:cNvSpPr/>
          <p:nvPr/>
        </p:nvSpPr>
        <p:spPr>
          <a:xfrm>
            <a:off x="6138720" y="2454120"/>
            <a:ext cx="1052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"/>
          <p:cNvSpPr/>
          <p:nvPr/>
        </p:nvSpPr>
        <p:spPr>
          <a:xfrm>
            <a:off x="7453440" y="2454120"/>
            <a:ext cx="127944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Deep Breathing Ex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Stop Smoking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"/>
          <p:cNvSpPr/>
          <p:nvPr/>
        </p:nvSpPr>
        <p:spPr>
          <a:xfrm>
            <a:off x="7358040" y="282240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"/>
          <p:cNvSpPr/>
          <p:nvPr/>
        </p:nvSpPr>
        <p:spPr>
          <a:xfrm>
            <a:off x="8729640" y="2473200"/>
            <a:ext cx="110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Meditatio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7" name=""/>
          <p:cNvSpPr/>
          <p:nvPr/>
        </p:nvSpPr>
        <p:spPr>
          <a:xfrm>
            <a:off x="4808520" y="3508200"/>
            <a:ext cx="1081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Red wine &gt; beer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8" name=""/>
          <p:cNvSpPr/>
          <p:nvPr/>
        </p:nvSpPr>
        <p:spPr>
          <a:xfrm>
            <a:off x="1798560" y="4254480"/>
            <a:ext cx="158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atural Anti-Inflammatories (p.32)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"/>
          <p:cNvSpPr/>
          <p:nvPr/>
        </p:nvSpPr>
        <p:spPr>
          <a:xfrm>
            <a:off x="8729640" y="4210200"/>
            <a:ext cx="1100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Meditatio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"/>
          <p:cNvSpPr/>
          <p:nvPr/>
        </p:nvSpPr>
        <p:spPr>
          <a:xfrm>
            <a:off x="4808520" y="514980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Red wine &gt; spirits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"/>
          <p:cNvSpPr/>
          <p:nvPr/>
        </p:nvSpPr>
        <p:spPr>
          <a:xfrm>
            <a:off x="6138720" y="4906800"/>
            <a:ext cx="107964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 </a:t>
            </a: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Tai Chi Chua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ym: 90 mn/wk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"/>
          <p:cNvSpPr/>
          <p:nvPr/>
        </p:nvSpPr>
        <p:spPr>
          <a:xfrm>
            <a:off x="7473960" y="4898880"/>
            <a:ext cx="12985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Deep Breathing Ex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Stop Smoking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Meditatio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"/>
          <p:cNvSpPr/>
          <p:nvPr/>
        </p:nvSpPr>
        <p:spPr>
          <a:xfrm>
            <a:off x="1798560" y="5589720"/>
            <a:ext cx="129708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Decrease caffeine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Camomille Tea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4" name=""/>
          <p:cNvSpPr/>
          <p:nvPr/>
        </p:nvSpPr>
        <p:spPr>
          <a:xfrm>
            <a:off x="3392640" y="5592600"/>
            <a:ext cx="1396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edometer: 10k / day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"/>
          <p:cNvSpPr/>
          <p:nvPr/>
        </p:nvSpPr>
        <p:spPr>
          <a:xfrm>
            <a:off x="7473960" y="5661000"/>
            <a:ext cx="1170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Deep Breathing Ex.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6" name=""/>
          <p:cNvSpPr/>
          <p:nvPr/>
        </p:nvSpPr>
        <p:spPr>
          <a:xfrm>
            <a:off x="6138720" y="5560920"/>
            <a:ext cx="110016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Gym: 90 mn/wk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B.U.R.S.T.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. M. R.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7" name=""/>
          <p:cNvSpPr/>
          <p:nvPr/>
        </p:nvSpPr>
        <p:spPr>
          <a:xfrm>
            <a:off x="8748720" y="5713560"/>
            <a:ext cx="11001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en-US" sz="1000" spc="-1" strike="noStrike">
                <a:solidFill>
                  <a:srgbClr val="333333"/>
                </a:solidFill>
                <a:latin typeface="Calibri"/>
                <a:ea typeface="Calibri"/>
              </a:rPr>
              <a:t>Sauna/ Hamman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P. M. R. 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8" name=""/>
          <p:cNvSpPr/>
          <p:nvPr/>
        </p:nvSpPr>
        <p:spPr>
          <a:xfrm>
            <a:off x="1779480" y="433548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"/>
          <p:cNvSpPr/>
          <p:nvPr/>
        </p:nvSpPr>
        <p:spPr>
          <a:xfrm>
            <a:off x="7400880" y="577548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"/>
          <p:cNvSpPr/>
          <p:nvPr/>
        </p:nvSpPr>
        <p:spPr>
          <a:xfrm>
            <a:off x="8688240" y="434196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1" name=""/>
          <p:cNvSpPr/>
          <p:nvPr/>
        </p:nvSpPr>
        <p:spPr>
          <a:xfrm>
            <a:off x="8683560" y="259704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0"/>
          <a:stretch/>
        </p:blipFill>
        <p:spPr>
          <a:xfrm>
            <a:off x="244440" y="2637000"/>
            <a:ext cx="403200" cy="49356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/>
          <p:cNvPicPr/>
          <p:nvPr/>
        </p:nvPicPr>
        <p:blipFill>
          <a:blip r:embed="rId11"/>
          <a:stretch/>
        </p:blipFill>
        <p:spPr>
          <a:xfrm>
            <a:off x="272880" y="3375000"/>
            <a:ext cx="392400" cy="76032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6089760" y="4705200"/>
            <a:ext cx="8712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5" name=""/>
          <p:cNvSpPr/>
          <p:nvPr/>
        </p:nvSpPr>
        <p:spPr>
          <a:xfrm>
            <a:off x="7386480" y="548784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6" name=""/>
          <p:cNvSpPr/>
          <p:nvPr/>
        </p:nvSpPr>
        <p:spPr>
          <a:xfrm>
            <a:off x="4808520" y="5722920"/>
            <a:ext cx="1281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fr-FR" sz="1000" spc="-1" strike="noStrike">
                <a:solidFill>
                  <a:srgbClr val="333333"/>
                </a:solidFill>
                <a:latin typeface="Calibri"/>
                <a:ea typeface="Calibri"/>
              </a:rPr>
              <a:t>No Alcohol &gt; 22h00</a:t>
            </a:r>
            <a:endParaRPr b="1" i="1" lang="en-US" sz="1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7" name=""/>
          <p:cNvSpPr/>
          <p:nvPr/>
        </p:nvSpPr>
        <p:spPr>
          <a:xfrm>
            <a:off x="1779480" y="307656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4794120" y="2565360"/>
            <a:ext cx="87480" cy="574560"/>
            <a:chOff x="4794120" y="2565360"/>
            <a:chExt cx="87480" cy="574560"/>
          </a:xfrm>
        </p:grpSpPr>
        <p:sp>
          <p:nvSpPr>
            <p:cNvPr id="449" name=""/>
            <p:cNvSpPr/>
            <p:nvPr/>
          </p:nvSpPr>
          <p:spPr>
            <a:xfrm>
              <a:off x="4794120" y="2565360"/>
              <a:ext cx="87480" cy="1015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94120" y="2720880"/>
              <a:ext cx="87480" cy="1015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94120" y="2886120"/>
              <a:ext cx="87480" cy="1015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794120" y="3038400"/>
              <a:ext cx="87480" cy="101520"/>
            </a:xfrm>
            <a:prstGeom prst="rect">
              <a:avLst/>
            </a:prstGeom>
            <a:noFill/>
            <a:ln w="1260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4400" spc="-1" strike="noStrike">
                <a:solidFill>
                  <a:srgbClr val="ffffff"/>
                </a:solidFill>
                <a:latin typeface="Century Gothic"/>
              </a:endParaRPr>
            </a:p>
          </p:txBody>
        </p:sp>
      </p:grpSp>
      <p:sp>
        <p:nvSpPr>
          <p:cNvPr id="453" name=""/>
          <p:cNvSpPr/>
          <p:nvPr/>
        </p:nvSpPr>
        <p:spPr>
          <a:xfrm>
            <a:off x="4794120" y="5848200"/>
            <a:ext cx="87480" cy="10188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"/>
          <p:cNvSpPr/>
          <p:nvPr/>
        </p:nvSpPr>
        <p:spPr>
          <a:xfrm>
            <a:off x="1774800" y="5943600"/>
            <a:ext cx="87480" cy="101520"/>
          </a:xfrm>
          <a:prstGeom prst="rect">
            <a:avLst/>
          </a:prstGeom>
          <a:noFill/>
          <a:ln w="12600">
            <a:solidFill>
              <a:srgbClr val="3333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i="1" lang="en-US" sz="4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McGannon</dc:creator>
  <dc:description/>
  <dc:language>en-US</dc:language>
  <cp:lastModifiedBy>MON PC</cp:lastModifiedBy>
  <cp:lastPrinted>2011-05-23T13:05:34Z</cp:lastPrinted>
  <dcterms:modified xsi:type="dcterms:W3CDTF">2011-06-01T09:58:36Z</dcterms:modified>
  <cp:revision>188</cp:revision>
  <dc:subject/>
  <dc:title>Future of Medicine</dc:title>
</cp:coreProperties>
</file>