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907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8004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560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48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8004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560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1D429-3992-4D98-AF29-F6DB5C102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FC01-8A94-43DD-BF90-589195651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85867-F585-4CD0-BD61-EA06FDB9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A2C2-C18D-4B7E-94E2-B3605FF9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F678-FDC0-4600-BB9C-CC5A9B1E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5000" y="76320"/>
            <a:ext cx="9694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FE835-416B-4BDD-A9AA-E53D0672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FE08-1BFD-4D72-906F-9FD74E464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FF8B-9CF1-49EF-A2A6-05AD13CA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6321-EBDF-40DD-8AE8-91D349657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ABFF0-DCBE-4E51-B777-E85358D67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4DB-4C04-455D-A77A-F40597678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8004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4560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48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8004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4560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A910-1D8E-4CAF-AD2B-EDF595A7D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F5B02-DB09-40FF-B2F2-85B324659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01DD-93EB-4D18-A609-E10996162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3DEBB-3510-468A-A3E6-8FF72563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4AFA3-A837-4172-9A99-666F13EA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EC927-A739-41AA-A9F1-B73DBC96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5000" y="76320"/>
            <a:ext cx="9694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8EF3C-AE76-4C6C-AEE1-F730F5AAA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988F-4A82-4987-8911-482817033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DD9BB-E255-4449-8C2C-D01ED2CB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3593E-3DD0-4C9B-BDA3-693FCD049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81AB6-271E-4446-99A7-88939D3DC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E041B-4706-4071-AB5E-18588F6A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8004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4560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48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8004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4560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4B1FC-78F2-48EE-94AD-95F1E37B0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3BAD0D-6637-4652-ADAB-91056579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F0EC8B-FFA6-4240-B9EB-1DCB7F3AA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BB572A-59C8-4F45-B57F-626BBA18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9FC9A-865C-4D04-AF88-9F851EDB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56F73E-EA8B-49F4-A7AF-10E274CA7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5000" y="76320"/>
            <a:ext cx="9694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E6D3B2-696B-4FB8-8FCC-6E73345D7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40391-9CC5-4FAB-ACAF-ED899D2AB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3C8863-6B79-4E23-AD54-EC3E0EFD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FEEE63-B376-4B53-9B0D-57C7819F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4CB35-3504-4D30-9BD5-82BD014A2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EEFFF-A61D-4272-99A5-54F1A65FE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8004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64560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448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8004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64560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57125-AC97-4FE2-8407-E5FD4307C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B89A2-78AB-4ED6-B421-51B641FB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C68256-B6D6-499A-BF48-69693DAC9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84E0E-92E9-4D8D-879D-FFA4945FA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C8BD9-CA3B-444A-B0C8-609FAFC6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3091B5-E75D-4E7A-AE37-6C6C92D9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35000" y="76320"/>
            <a:ext cx="9694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D78665-EEAD-4D01-A6C2-CF36A5481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FE2504-0117-4361-80E4-11F627FC5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5BA92B-040A-4484-82C1-08D5F41F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7433E4-86EA-493D-94B6-4D9F1E080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81ABF-0B97-4F73-9566-7F03C3BE8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83D5E9-B930-44A4-BD06-CF36E8291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000" y="76320"/>
            <a:ext cx="9694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8004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64560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48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8004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64560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A2928-8D91-429F-A103-528EC3B81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B8507B-C75E-46A9-9F04-79033FD25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84FF1-A9C3-45E0-A12F-7244300AE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E1E863-7159-4A24-9563-720EA282E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6EA58-DDA6-4494-893E-A2ED4D9E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770D2-56D2-4894-ACF9-AC9375F29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35000" y="76320"/>
            <a:ext cx="9694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71642-2FE1-4D1B-B0AA-5798015CA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A2D907-D405-4009-A003-8DCE70F66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68A5B2-C116-49A3-89EE-0F9EC1684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B20314-4C43-4276-B700-EE6A1274B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1504A-5746-4F3E-B29B-5CB0BFCA6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E18DF-41DA-4363-85CE-9377C252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8004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560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1448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8004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4560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49987-B386-4B0E-BC22-EE5A947F9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801DCE-D951-4269-9609-F40473081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7D65B8-9688-4D5D-8840-37045F31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B832FD-1A9B-425F-99A1-B99A43B0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61643-1E3D-4553-8EA0-A2855CDD0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55AAAF-1004-48D5-8630-ACF05893D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5000" y="76320"/>
            <a:ext cx="9694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A4294-7DBF-4CB4-A1F2-5640D50CA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3D383-E379-4AC9-B8AF-17D7612DA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970A0-F04E-48A5-B859-6CFFF06F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B18B8-09F6-43B9-910A-483DF2D3F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FB73D-8ECD-49CE-954D-19BB4749F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A25C0E-8456-4E3C-A4BB-051D8B5C6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8004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560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1448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8004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64560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71B5A4-F422-46DA-ABB4-562CDB83C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AABF6B-7338-421F-BBF8-47DD437BB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2B9F9C-CB65-4BA9-BB04-CB799F469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34CD1B-44EF-4EB1-9079-7EB3E4E87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ADE358-B3F9-4D0F-B4B0-870EEB0E6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D14AB0-EE09-433D-88EB-509572B5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35000" y="76320"/>
            <a:ext cx="96948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BA65D7-D631-497C-A7EF-EB9CF03BB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44F87E-2810-4C45-9A98-64D9EE75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17668-F69C-4142-8196-D939CA87D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31E41F-C20B-41B5-829F-66D167454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14480" y="3596760"/>
            <a:ext cx="96580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929C0A-DF58-4EF5-A469-1D36DC8F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63760" y="67608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448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063760" y="3596760"/>
            <a:ext cx="471312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393781-7EE4-487C-81FE-5736D52F5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5000" y="60840"/>
            <a:ext cx="969480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48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8004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5600" y="67608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1448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8004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645600" y="3596760"/>
            <a:ext cx="3109680" cy="266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2E6F8-7A5E-4B74-AA60-B14B17DC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000" y="76320"/>
            <a:ext cx="969480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480" y="676080"/>
            <a:ext cx="9658080" cy="5591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6858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15429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2000160" indent="-17136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Line 4"/>
          <p:cNvSpPr/>
          <p:nvPr/>
        </p:nvSpPr>
        <p:spPr>
          <a:xfrm>
            <a:off x="87480" y="6357960"/>
            <a:ext cx="9758160" cy="0"/>
          </a:xfrm>
          <a:prstGeom prst="line">
            <a:avLst/>
          </a:prstGeom>
          <a:ln w="25560">
            <a:solidFill>
              <a:srgbClr val="fc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8193240" y="6404040"/>
            <a:ext cx="1512720" cy="57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entury Gothic"/>
              </a:rPr>
              <a:t>© 2009  MIPH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9253080" y="228600"/>
            <a:ext cx="9601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7071-9563-4967-8775-2C43238BBC5F}" type="slidenum">
              <a:rPr b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Line 8"/>
          <p:cNvSpPr/>
          <p:nvPr/>
        </p:nvSpPr>
        <p:spPr>
          <a:xfrm>
            <a:off x="87480" y="603360"/>
            <a:ext cx="9666000" cy="6120"/>
          </a:xfrm>
          <a:prstGeom prst="line">
            <a:avLst/>
          </a:prstGeom>
          <a:ln w="25560">
            <a:solidFill>
              <a:srgbClr val="fc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34E1-0C05-40A9-BBD9-711C0044BDF9}" type="slidenum"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F669C-A6A1-4ADE-86B2-FCF202EC3949}" type="slidenum"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AF40-898A-4F12-BB21-D576C6038445}" type="slidenum"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A200-CC16-4CC9-843D-1BBA74116C96}" type="slidenum"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841B-0C03-4B14-9965-1308A99EA8A3}" type="slidenum"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5AAC0-C371-4E71-8F85-C4B838C855C6}" type="slidenum"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date/time&gt;</a:t>
            </a:r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898989"/>
                </a:solidFill>
                <a:latin typeface="Century 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58C17-9894-440B-B78F-00698C3873FE}" type="slidenum">
              <a:rPr b="1" i="1" lang="en-US" sz="1200" spc="-1" strike="noStrike">
                <a:solidFill>
                  <a:srgbClr val="898989"/>
                </a:solidFill>
                <a:latin typeface="Century Gothic"/>
              </a:rPr>
              <a:t>&lt;number&gt;</a:t>
            </a:fld>
            <a:endParaRPr b="1" i="1" lang="en-US" sz="12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13920" y="163440"/>
            <a:ext cx="924732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afd00"/>
                </a:solidFill>
                <a:latin typeface="Calibri"/>
                <a:ea typeface="Calibri"/>
              </a:rPr>
              <a:t>The 6 </a:t>
            </a:r>
            <a:r>
              <a:rPr b="1" i="1" lang="fr-FR" sz="2800" spc="-1" strike="noStrike">
                <a:solidFill>
                  <a:srgbClr val="fafd00"/>
                </a:solidFill>
                <a:latin typeface="Calibri"/>
                <a:ea typeface="Calibri"/>
              </a:rPr>
              <a:t>Strategic</a:t>
            </a:r>
            <a:r>
              <a:rPr b="1" lang="fr-FR" sz="2800" spc="-1" strike="noStrike">
                <a:solidFill>
                  <a:srgbClr val="fafd00"/>
                </a:solidFill>
                <a:latin typeface="Calibri"/>
                <a:ea typeface="Calibri"/>
              </a:rPr>
              <a:t> W’s of Health &amp; Sanity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30" name="Rectangle 3"/>
          <p:cNvSpPr/>
          <p:nvPr/>
        </p:nvSpPr>
        <p:spPr>
          <a:xfrm>
            <a:off x="200160" y="696960"/>
            <a:ext cx="9577080" cy="5616360"/>
          </a:xfrm>
          <a:prstGeom prst="rect">
            <a:avLst/>
          </a:prstGeom>
          <a:solidFill>
            <a:srgbClr val="ffffff"/>
          </a:solidFill>
          <a:ln cap="rnd"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Connecteur droit 11"/>
          <p:cNvSpPr/>
          <p:nvPr/>
        </p:nvSpPr>
        <p:spPr>
          <a:xfrm>
            <a:off x="1739880" y="692280"/>
            <a:ext cx="0" cy="5689440"/>
          </a:xfrm>
          <a:prstGeom prst="line">
            <a:avLst/>
          </a:prstGeom>
          <a:ln cap="rnd"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Connecteur droit 17"/>
          <p:cNvSpPr/>
          <p:nvPr/>
        </p:nvSpPr>
        <p:spPr>
          <a:xfrm>
            <a:off x="3325680" y="692280"/>
            <a:ext cx="0" cy="5689440"/>
          </a:xfrm>
          <a:prstGeom prst="line">
            <a:avLst/>
          </a:prstGeom>
          <a:ln cap="rnd"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Connecteur droit 18"/>
          <p:cNvSpPr/>
          <p:nvPr/>
        </p:nvSpPr>
        <p:spPr>
          <a:xfrm>
            <a:off x="4737240" y="692280"/>
            <a:ext cx="0" cy="5689440"/>
          </a:xfrm>
          <a:prstGeom prst="line">
            <a:avLst/>
          </a:prstGeom>
          <a:ln cap="rnd"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Connecteur droit 19"/>
          <p:cNvSpPr/>
          <p:nvPr/>
        </p:nvSpPr>
        <p:spPr>
          <a:xfrm>
            <a:off x="6032520" y="692280"/>
            <a:ext cx="0" cy="5689440"/>
          </a:xfrm>
          <a:prstGeom prst="line">
            <a:avLst/>
          </a:prstGeom>
          <a:ln cap="rnd"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Connecteur droit 20"/>
          <p:cNvSpPr/>
          <p:nvPr/>
        </p:nvSpPr>
        <p:spPr>
          <a:xfrm>
            <a:off x="7256520" y="692280"/>
            <a:ext cx="0" cy="5689440"/>
          </a:xfrm>
          <a:prstGeom prst="line">
            <a:avLst/>
          </a:prstGeom>
          <a:ln cap="rnd"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Connecteur droit 23"/>
          <p:cNvSpPr/>
          <p:nvPr/>
        </p:nvSpPr>
        <p:spPr>
          <a:xfrm>
            <a:off x="200160" y="1413000"/>
            <a:ext cx="9648720" cy="0"/>
          </a:xfrm>
          <a:prstGeom prst="line">
            <a:avLst/>
          </a:prstGeom>
          <a:ln cap="rnd"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Connecteur droit 24"/>
          <p:cNvSpPr/>
          <p:nvPr/>
        </p:nvSpPr>
        <p:spPr>
          <a:xfrm>
            <a:off x="200160" y="2492280"/>
            <a:ext cx="9648720" cy="0"/>
          </a:xfrm>
          <a:prstGeom prst="line">
            <a:avLst/>
          </a:prstGeom>
          <a:ln cap="rnd"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Connecteur droit 25"/>
          <p:cNvSpPr/>
          <p:nvPr/>
        </p:nvSpPr>
        <p:spPr>
          <a:xfrm>
            <a:off x="200160" y="3300480"/>
            <a:ext cx="9648720" cy="0"/>
          </a:xfrm>
          <a:prstGeom prst="line">
            <a:avLst/>
          </a:prstGeom>
          <a:ln cap="rnd"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Connecteur droit 26"/>
          <p:cNvSpPr/>
          <p:nvPr/>
        </p:nvSpPr>
        <p:spPr>
          <a:xfrm>
            <a:off x="200160" y="4221000"/>
            <a:ext cx="9648720" cy="0"/>
          </a:xfrm>
          <a:prstGeom prst="line">
            <a:avLst/>
          </a:prstGeom>
          <a:ln cap="rnd"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Connecteur droit 27"/>
          <p:cNvSpPr/>
          <p:nvPr/>
        </p:nvSpPr>
        <p:spPr>
          <a:xfrm>
            <a:off x="200160" y="4941720"/>
            <a:ext cx="9648720" cy="0"/>
          </a:xfrm>
          <a:prstGeom prst="line">
            <a:avLst/>
          </a:prstGeom>
          <a:ln cap="rnd"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Connecteur droit 28"/>
          <p:cNvSpPr/>
          <p:nvPr/>
        </p:nvSpPr>
        <p:spPr>
          <a:xfrm>
            <a:off x="200160" y="5661000"/>
            <a:ext cx="9648720" cy="0"/>
          </a:xfrm>
          <a:prstGeom prst="line">
            <a:avLst/>
          </a:prstGeom>
          <a:ln cap="rnd"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ZoneTexte 53"/>
          <p:cNvSpPr/>
          <p:nvPr/>
        </p:nvSpPr>
        <p:spPr>
          <a:xfrm>
            <a:off x="592200" y="3251160"/>
            <a:ext cx="1222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33"/>
                </a:solidFill>
                <a:latin typeface="Calibri"/>
                <a:ea typeface="Calibri"/>
              </a:rPr>
              <a:t>Improve Cardio-Fitness: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33"/>
                </a:solidFill>
                <a:latin typeface="Calibri"/>
                <a:ea typeface="Calibri"/>
              </a:rPr>
              <a:t>CF  = ______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33333"/>
                </a:solidFill>
                <a:latin typeface="Calibri"/>
                <a:ea typeface="Calibri"/>
              </a:rPr>
              <a:t>RHR = ______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ZoneTexte 51"/>
          <p:cNvSpPr/>
          <p:nvPr/>
        </p:nvSpPr>
        <p:spPr>
          <a:xfrm>
            <a:off x="738720" y="26370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 </a:t>
            </a:r>
            <a:r>
              <a:rPr b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TG:HDL ___</a:t>
            </a:r>
            <a:endParaRPr b="1" i="1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ZoneTexte 52"/>
          <p:cNvSpPr/>
          <p:nvPr/>
        </p:nvSpPr>
        <p:spPr>
          <a:xfrm>
            <a:off x="698760" y="299736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  </a:t>
            </a:r>
            <a:r>
              <a:rPr b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BP___ /___</a:t>
            </a:r>
            <a:endParaRPr b="1" i="1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ZoneTexte 55"/>
          <p:cNvSpPr/>
          <p:nvPr/>
        </p:nvSpPr>
        <p:spPr>
          <a:xfrm>
            <a:off x="864720" y="5662440"/>
            <a:ext cx="77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Calibri"/>
                <a:ea typeface="Calibri"/>
              </a:rPr>
              <a:t>Better</a:t>
            </a:r>
            <a:endParaRPr b="1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Calibri"/>
                <a:ea typeface="Calibri"/>
              </a:rPr>
              <a:t>Sleep</a:t>
            </a:r>
            <a:endParaRPr b="1" i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ZoneTexte 56"/>
          <p:cNvSpPr/>
          <p:nvPr/>
        </p:nvSpPr>
        <p:spPr>
          <a:xfrm>
            <a:off x="753480" y="4294080"/>
            <a:ext cx="97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Calibri"/>
                <a:ea typeface="Calibri"/>
              </a:rPr>
              <a:t>Pain-Free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Calibri"/>
                <a:ea typeface="Calibri"/>
              </a:rPr>
              <a:t>Back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Picture 6" descr="http://www.thegripauthority.com/leonardo_da_vinci_anatomy_of_back_and_arm.jpg"/>
          <p:cNvPicPr/>
          <p:nvPr/>
        </p:nvPicPr>
        <p:blipFill>
          <a:blip r:embed="rId1"/>
          <a:srcRect l="48514" t="15482" r="14018" b="25698"/>
          <a:stretch/>
        </p:blipFill>
        <p:spPr>
          <a:xfrm>
            <a:off x="270000" y="4254480"/>
            <a:ext cx="528480" cy="668520"/>
          </a:xfrm>
          <a:prstGeom prst="rect">
            <a:avLst/>
          </a:prstGeom>
          <a:ln w="0">
            <a:noFill/>
          </a:ln>
        </p:spPr>
      </p:pic>
      <p:sp>
        <p:nvSpPr>
          <p:cNvPr id="348" name="ZoneTexte 80"/>
          <p:cNvSpPr/>
          <p:nvPr/>
        </p:nvSpPr>
        <p:spPr>
          <a:xfrm>
            <a:off x="795240" y="5014800"/>
            <a:ext cx="9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Calibri"/>
                <a:ea typeface="Calibri"/>
              </a:rPr>
              <a:t>Tension</a:t>
            </a:r>
            <a:endParaRPr b="1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333333"/>
                </a:solidFill>
                <a:latin typeface="Calibri"/>
                <a:ea typeface="Calibri"/>
              </a:rPr>
              <a:t>Control</a:t>
            </a:r>
            <a:endParaRPr b="1" i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Connecteur droit 81"/>
          <p:cNvSpPr/>
          <p:nvPr/>
        </p:nvSpPr>
        <p:spPr>
          <a:xfrm>
            <a:off x="8624880" y="692280"/>
            <a:ext cx="0" cy="5689440"/>
          </a:xfrm>
          <a:prstGeom prst="line">
            <a:avLst/>
          </a:prstGeom>
          <a:ln cap="rnd"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Picture 8" descr="http://pakiology.com/wp-content/uploads/2010/04/sound-sleep.jpg"/>
          <p:cNvPicPr/>
          <p:nvPr/>
        </p:nvPicPr>
        <p:blipFill>
          <a:blip r:embed="rId2"/>
          <a:srcRect l="4623" t="6860" r="6495" b="6221"/>
          <a:stretch/>
        </p:blipFill>
        <p:spPr>
          <a:xfrm>
            <a:off x="274680" y="5699160"/>
            <a:ext cx="547560" cy="53820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4" descr="http://img0.liveinternet.ru/images/attach/c/2/70/606/70606736_Cool.jpg"/>
          <p:cNvPicPr/>
          <p:nvPr/>
        </p:nvPicPr>
        <p:blipFill>
          <a:blip r:embed="rId3"/>
          <a:stretch/>
        </p:blipFill>
        <p:spPr>
          <a:xfrm>
            <a:off x="279360" y="4989600"/>
            <a:ext cx="576360" cy="642960"/>
          </a:xfrm>
          <a:prstGeom prst="rect">
            <a:avLst/>
          </a:prstGeom>
          <a:ln w="0">
            <a:noFill/>
          </a:ln>
        </p:spPr>
      </p:pic>
      <p:sp>
        <p:nvSpPr>
          <p:cNvPr id="352" name="ZoneTexte 29"/>
          <p:cNvSpPr/>
          <p:nvPr/>
        </p:nvSpPr>
        <p:spPr>
          <a:xfrm>
            <a:off x="2075040" y="841320"/>
            <a:ext cx="66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33"/>
                </a:solidFill>
                <a:latin typeface="Calibri"/>
                <a:ea typeface="Calibri"/>
              </a:rPr>
              <a:t>Water</a:t>
            </a:r>
            <a:r>
              <a:rPr b="1" lang="fr-FR" sz="2000" spc="-1" strike="noStrike">
                <a:solidFill>
                  <a:srgbClr val="333333"/>
                </a:solidFill>
                <a:latin typeface="Calibri"/>
                <a:ea typeface="Calibri"/>
              </a:rPr>
              <a:t>	</a:t>
            </a:r>
            <a:r>
              <a:rPr b="1" lang="fr-FR" sz="2000" spc="-1" strike="noStrike">
                <a:solidFill>
                  <a:srgbClr val="333333"/>
                </a:solidFill>
                <a:latin typeface="Calibri"/>
                <a:ea typeface="Calibri"/>
              </a:rPr>
              <a:t>         Walking            Wine        Work-Out        Wind  </a:t>
            </a:r>
            <a:r>
              <a:rPr b="1" lang="fr-FR" sz="2000" spc="-1" strike="noStrike">
                <a:solidFill>
                  <a:srgbClr val="333333"/>
                </a:solidFill>
                <a:latin typeface="Calibri"/>
                <a:ea typeface="Calibri"/>
              </a:rPr>
              <a:t>	</a:t>
            </a:r>
            <a:r>
              <a:rPr b="1" lang="fr-FR" sz="2000" spc="-1" strike="noStrike">
                <a:solidFill>
                  <a:srgbClr val="333333"/>
                </a:solidFill>
                <a:latin typeface="Calibri"/>
                <a:ea typeface="Calibri"/>
              </a:rPr>
              <a:t>       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Picture 7" descr="leader.jpg"/>
          <p:cNvPicPr/>
          <p:nvPr/>
        </p:nvPicPr>
        <p:blipFill>
          <a:blip r:embed="rId4"/>
          <a:srcRect l="42186" t="15356" r="8949" b="0"/>
          <a:stretch/>
        </p:blipFill>
        <p:spPr>
          <a:xfrm>
            <a:off x="355680" y="776160"/>
            <a:ext cx="550800" cy="573120"/>
          </a:xfrm>
          <a:prstGeom prst="rect">
            <a:avLst/>
          </a:prstGeom>
          <a:ln w="0">
            <a:noFill/>
          </a:ln>
        </p:spPr>
      </p:pic>
      <p:sp>
        <p:nvSpPr>
          <p:cNvPr id="354" name="Espace réservé du texte 4"/>
          <p:cNvSpPr/>
          <p:nvPr/>
        </p:nvSpPr>
        <p:spPr>
          <a:xfrm>
            <a:off x="95400" y="6429240"/>
            <a:ext cx="9739080" cy="357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85840" indent="-28584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1600" spc="-1" strike="noStrike">
                <a:solidFill>
                  <a:srgbClr val="fafd00"/>
                </a:solidFill>
                <a:latin typeface="Calibri"/>
              </a:rPr>
              <a:t>Leader’s  Health Challenge (LHC), © 2011  MGI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ZoneTexte 2"/>
          <p:cNvSpPr/>
          <p:nvPr/>
        </p:nvSpPr>
        <p:spPr>
          <a:xfrm>
            <a:off x="622080" y="6464160"/>
            <a:ext cx="324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afd00"/>
                </a:solidFill>
                <a:latin typeface="Calibri"/>
                <a:ea typeface="Calibri"/>
              </a:rPr>
              <a:t>Contact: Michael.Mcgannon@insead.edu</a:t>
            </a:r>
            <a:endParaRPr b="1" i="1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ZoneTexte 99"/>
          <p:cNvSpPr/>
          <p:nvPr/>
        </p:nvSpPr>
        <p:spPr>
          <a:xfrm>
            <a:off x="6110280" y="4154400"/>
            <a:ext cx="1324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Indian Squat (5X)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Knee-to-Chest (30”)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Yoga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ZoneTexte 99"/>
          <p:cNvSpPr/>
          <p:nvPr/>
        </p:nvSpPr>
        <p:spPr>
          <a:xfrm>
            <a:off x="4818240" y="2502000"/>
            <a:ext cx="1306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Red wine/grapes/tea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</a:rPr>
              <a:t>Consume egg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Oily Fish , </a:t>
            </a:r>
            <a:r>
              <a:rPr b="0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Hemp/Flax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Black Chocolat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ZoneTexte 60"/>
          <p:cNvSpPr/>
          <p:nvPr/>
        </p:nvSpPr>
        <p:spPr>
          <a:xfrm>
            <a:off x="1789200" y="1417680"/>
            <a:ext cx="1671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2 glasses H2O </a:t>
            </a: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efore</a:t>
            </a: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 meal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O</a:t>
            </a: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 Soft/Fruit Drinks: </a:t>
            </a:r>
            <a:r>
              <a:rPr b="1" i="1" lang="fr-FR" sz="1000" spc="-1" strike="noStrike">
                <a:solidFill>
                  <a:srgbClr val="ff0000"/>
                </a:solidFill>
                <a:latin typeface="Calibri"/>
                <a:ea typeface="Calibri"/>
              </a:rPr>
              <a:t>HFCS!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Fruits </a:t>
            </a:r>
            <a:r>
              <a:rPr b="0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etween</a:t>
            </a: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 meal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o « </a:t>
            </a:r>
            <a:r>
              <a:rPr b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Whites</a:t>
            </a: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 »:  low GI 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ZoneTexte 87"/>
          <p:cNvSpPr/>
          <p:nvPr/>
        </p:nvSpPr>
        <p:spPr>
          <a:xfrm>
            <a:off x="3368520" y="1413000"/>
            <a:ext cx="15130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15 Min after meal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edometer: 5k / day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Weekend Hikes: &gt;10k/d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ZoneTexte 93"/>
          <p:cNvSpPr/>
          <p:nvPr/>
        </p:nvSpPr>
        <p:spPr>
          <a:xfrm>
            <a:off x="4853160" y="1432080"/>
            <a:ext cx="1079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Red wine &gt; beer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Garlic Extract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ZoneTexte 105"/>
          <p:cNvSpPr/>
          <p:nvPr/>
        </p:nvSpPr>
        <p:spPr>
          <a:xfrm>
            <a:off x="6138720" y="1413000"/>
            <a:ext cx="1043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Longevity Tabl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ZoneTexte 30"/>
          <p:cNvSpPr/>
          <p:nvPr/>
        </p:nvSpPr>
        <p:spPr>
          <a:xfrm>
            <a:off x="8648640" y="749160"/>
            <a:ext cx="105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Calibri"/>
                <a:ea typeface="Calibri"/>
              </a:rPr>
              <a:t>Worry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33"/>
                </a:solidFill>
                <a:latin typeface="Calibri"/>
                <a:ea typeface="Calibri"/>
              </a:rPr>
              <a:t>Effectively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ZoneTexte 111"/>
          <p:cNvSpPr/>
          <p:nvPr/>
        </p:nvSpPr>
        <p:spPr>
          <a:xfrm>
            <a:off x="8729640" y="4906800"/>
            <a:ext cx="1117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Relax with </a:t>
            </a: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Yoga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Write a </a:t>
            </a:r>
            <a:r>
              <a:rPr b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LifePLa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DABDA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ZoneTexte 99"/>
          <p:cNvSpPr/>
          <p:nvPr/>
        </p:nvSpPr>
        <p:spPr>
          <a:xfrm>
            <a:off x="920880" y="7491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Calibri"/>
                <a:ea typeface="Calibri"/>
              </a:rPr>
              <a:t>Key to Success:</a:t>
            </a:r>
            <a:endParaRPr b="1" i="1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Calibri"/>
                <a:ea typeface="Calibri"/>
              </a:rPr>
              <a:t>Use the MGI </a:t>
            </a:r>
            <a:endParaRPr b="1" i="1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333333"/>
                </a:solidFill>
                <a:latin typeface="Calibri"/>
                <a:ea typeface="Calibri"/>
              </a:rPr>
              <a:t>Weekly Log</a:t>
            </a:r>
            <a:endParaRPr b="1" i="1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ZoneTexte 35"/>
          <p:cNvSpPr/>
          <p:nvPr/>
        </p:nvSpPr>
        <p:spPr>
          <a:xfrm>
            <a:off x="377640" y="162396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Body Fat ____%</a:t>
            </a:r>
            <a:endParaRPr b="1" i="1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Picture 207" descr="http://www.write2it.com/wp-content/uploads/2011/01/arrow-down.jpg"/>
          <p:cNvPicPr/>
          <p:nvPr/>
        </p:nvPicPr>
        <p:blipFill>
          <a:blip r:embed="rId5"/>
          <a:stretch/>
        </p:blipFill>
        <p:spPr>
          <a:xfrm>
            <a:off x="254160" y="1674720"/>
            <a:ext cx="233280" cy="255600"/>
          </a:xfrm>
          <a:prstGeom prst="rect">
            <a:avLst/>
          </a:prstGeom>
          <a:ln w="0">
            <a:noFill/>
          </a:ln>
        </p:spPr>
      </p:pic>
      <p:sp>
        <p:nvSpPr>
          <p:cNvPr id="367" name="ZoneTexte 35"/>
          <p:cNvSpPr/>
          <p:nvPr/>
        </p:nvSpPr>
        <p:spPr>
          <a:xfrm>
            <a:off x="441720" y="206388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WHR _____</a:t>
            </a:r>
            <a:endParaRPr b="1" i="1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Picture 207" descr="http://www.write2it.com/wp-content/uploads/2011/01/arrow-down.jpg"/>
          <p:cNvPicPr/>
          <p:nvPr/>
        </p:nvPicPr>
        <p:blipFill>
          <a:blip r:embed="rId6"/>
          <a:stretch/>
        </p:blipFill>
        <p:spPr>
          <a:xfrm>
            <a:off x="254160" y="2082960"/>
            <a:ext cx="233280" cy="255600"/>
          </a:xfrm>
          <a:prstGeom prst="rect">
            <a:avLst/>
          </a:prstGeom>
          <a:ln w="0">
            <a:noFill/>
          </a:ln>
        </p:spPr>
      </p:pic>
      <p:sp>
        <p:nvSpPr>
          <p:cNvPr id="369" name="Rectangle 11"/>
          <p:cNvSpPr/>
          <p:nvPr/>
        </p:nvSpPr>
        <p:spPr>
          <a:xfrm>
            <a:off x="1779480" y="153180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Rectangle 230"/>
          <p:cNvSpPr/>
          <p:nvPr/>
        </p:nvSpPr>
        <p:spPr>
          <a:xfrm>
            <a:off x="1779480" y="1762200"/>
            <a:ext cx="87480" cy="10296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Rectangle 231"/>
          <p:cNvSpPr/>
          <p:nvPr/>
        </p:nvSpPr>
        <p:spPr>
          <a:xfrm>
            <a:off x="1779480" y="199548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Rectangle 232"/>
          <p:cNvSpPr/>
          <p:nvPr/>
        </p:nvSpPr>
        <p:spPr>
          <a:xfrm>
            <a:off x="1779480" y="223524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Rectangle 233"/>
          <p:cNvSpPr/>
          <p:nvPr/>
        </p:nvSpPr>
        <p:spPr>
          <a:xfrm>
            <a:off x="3354480" y="1542960"/>
            <a:ext cx="87120" cy="1033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Rectangle 234"/>
          <p:cNvSpPr/>
          <p:nvPr/>
        </p:nvSpPr>
        <p:spPr>
          <a:xfrm>
            <a:off x="3354480" y="177480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Rectangle 235"/>
          <p:cNvSpPr/>
          <p:nvPr/>
        </p:nvSpPr>
        <p:spPr>
          <a:xfrm>
            <a:off x="3354480" y="198756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Rectangle 237"/>
          <p:cNvSpPr/>
          <p:nvPr/>
        </p:nvSpPr>
        <p:spPr>
          <a:xfrm>
            <a:off x="4794120" y="155736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Rectangle 238"/>
          <p:cNvSpPr/>
          <p:nvPr/>
        </p:nvSpPr>
        <p:spPr>
          <a:xfrm>
            <a:off x="4794120" y="177804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Rectangle 241"/>
          <p:cNvSpPr/>
          <p:nvPr/>
        </p:nvSpPr>
        <p:spPr>
          <a:xfrm>
            <a:off x="6089760" y="155736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Rectangle 242"/>
          <p:cNvSpPr/>
          <p:nvPr/>
        </p:nvSpPr>
        <p:spPr>
          <a:xfrm>
            <a:off x="6089760" y="1787400"/>
            <a:ext cx="8712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Picture 207" descr="http://www.write2it.com/wp-content/uploads/2011/01/arrow-down.jpg"/>
          <p:cNvPicPr/>
          <p:nvPr/>
        </p:nvPicPr>
        <p:blipFill>
          <a:blip r:embed="rId7"/>
          <a:stretch/>
        </p:blipFill>
        <p:spPr>
          <a:xfrm>
            <a:off x="635040" y="2668680"/>
            <a:ext cx="233280" cy="2556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207" descr="http://www.write2it.com/wp-content/uploads/2011/01/arrow-down.jpg"/>
          <p:cNvPicPr/>
          <p:nvPr/>
        </p:nvPicPr>
        <p:blipFill>
          <a:blip r:embed="rId8"/>
          <a:stretch/>
        </p:blipFill>
        <p:spPr>
          <a:xfrm>
            <a:off x="630360" y="3029040"/>
            <a:ext cx="234720" cy="25560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55"/>
          <p:cNvSpPr/>
          <p:nvPr/>
        </p:nvSpPr>
        <p:spPr>
          <a:xfrm>
            <a:off x="6089760" y="258444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Rectangle 259"/>
          <p:cNvSpPr/>
          <p:nvPr/>
        </p:nvSpPr>
        <p:spPr>
          <a:xfrm>
            <a:off x="6089760" y="348300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Rectangle 260"/>
          <p:cNvSpPr/>
          <p:nvPr/>
        </p:nvSpPr>
        <p:spPr>
          <a:xfrm>
            <a:off x="6089760" y="3713040"/>
            <a:ext cx="8712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Rectangle 261"/>
          <p:cNvSpPr/>
          <p:nvPr/>
        </p:nvSpPr>
        <p:spPr>
          <a:xfrm>
            <a:off x="6089760" y="394488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Rectangle 262"/>
          <p:cNvSpPr/>
          <p:nvPr/>
        </p:nvSpPr>
        <p:spPr>
          <a:xfrm>
            <a:off x="6089760" y="427680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Rectangle 263"/>
          <p:cNvSpPr/>
          <p:nvPr/>
        </p:nvSpPr>
        <p:spPr>
          <a:xfrm>
            <a:off x="6089760" y="450864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Rectangle 265"/>
          <p:cNvSpPr/>
          <p:nvPr/>
        </p:nvSpPr>
        <p:spPr>
          <a:xfrm>
            <a:off x="6089760" y="5030640"/>
            <a:ext cx="8712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Rectangle 266"/>
          <p:cNvSpPr/>
          <p:nvPr/>
        </p:nvSpPr>
        <p:spPr>
          <a:xfrm>
            <a:off x="6089760" y="523872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Rectangle 267"/>
          <p:cNvSpPr/>
          <p:nvPr/>
        </p:nvSpPr>
        <p:spPr>
          <a:xfrm>
            <a:off x="6089760" y="5460840"/>
            <a:ext cx="8712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Rectangle 268"/>
          <p:cNvSpPr/>
          <p:nvPr/>
        </p:nvSpPr>
        <p:spPr>
          <a:xfrm>
            <a:off x="6089760" y="5700600"/>
            <a:ext cx="8712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Rectangle 269"/>
          <p:cNvSpPr/>
          <p:nvPr/>
        </p:nvSpPr>
        <p:spPr>
          <a:xfrm>
            <a:off x="6089760" y="592452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Rectangle 270"/>
          <p:cNvSpPr/>
          <p:nvPr/>
        </p:nvSpPr>
        <p:spPr>
          <a:xfrm>
            <a:off x="6089760" y="612144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Rectangle 271"/>
          <p:cNvSpPr/>
          <p:nvPr/>
        </p:nvSpPr>
        <p:spPr>
          <a:xfrm>
            <a:off x="7348680" y="2584440"/>
            <a:ext cx="8712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Rectangle 281"/>
          <p:cNvSpPr/>
          <p:nvPr/>
        </p:nvSpPr>
        <p:spPr>
          <a:xfrm>
            <a:off x="7386480" y="503064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Rectangle 282"/>
          <p:cNvSpPr/>
          <p:nvPr/>
        </p:nvSpPr>
        <p:spPr>
          <a:xfrm>
            <a:off x="7386480" y="522936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Rectangle 297"/>
          <p:cNvSpPr/>
          <p:nvPr/>
        </p:nvSpPr>
        <p:spPr>
          <a:xfrm>
            <a:off x="8688240" y="503064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Rectangle 298"/>
          <p:cNvSpPr/>
          <p:nvPr/>
        </p:nvSpPr>
        <p:spPr>
          <a:xfrm>
            <a:off x="8688240" y="525780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Rectangle 299"/>
          <p:cNvSpPr/>
          <p:nvPr/>
        </p:nvSpPr>
        <p:spPr>
          <a:xfrm>
            <a:off x="8688240" y="547992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0" name="Rectangle 301"/>
          <p:cNvSpPr/>
          <p:nvPr/>
        </p:nvSpPr>
        <p:spPr>
          <a:xfrm>
            <a:off x="8688240" y="583884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Rectangle 302"/>
          <p:cNvSpPr/>
          <p:nvPr/>
        </p:nvSpPr>
        <p:spPr>
          <a:xfrm>
            <a:off x="8688240" y="606420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Rectangle 308"/>
          <p:cNvSpPr/>
          <p:nvPr/>
        </p:nvSpPr>
        <p:spPr>
          <a:xfrm>
            <a:off x="1779480" y="260352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Rectangle 309"/>
          <p:cNvSpPr/>
          <p:nvPr/>
        </p:nvSpPr>
        <p:spPr>
          <a:xfrm>
            <a:off x="1779480" y="275904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Rectangle 310"/>
          <p:cNvSpPr/>
          <p:nvPr/>
        </p:nvSpPr>
        <p:spPr>
          <a:xfrm>
            <a:off x="1779480" y="292428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Rectangle 312"/>
          <p:cNvSpPr/>
          <p:nvPr/>
        </p:nvSpPr>
        <p:spPr>
          <a:xfrm>
            <a:off x="1779480" y="362592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Rectangle 318"/>
          <p:cNvSpPr/>
          <p:nvPr/>
        </p:nvSpPr>
        <p:spPr>
          <a:xfrm>
            <a:off x="1779480" y="508464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Rectangle 319"/>
          <p:cNvSpPr/>
          <p:nvPr/>
        </p:nvSpPr>
        <p:spPr>
          <a:xfrm>
            <a:off x="1779480" y="531504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Rectangle 321"/>
          <p:cNvSpPr/>
          <p:nvPr/>
        </p:nvSpPr>
        <p:spPr>
          <a:xfrm>
            <a:off x="1779480" y="571644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Rectangle 327"/>
          <p:cNvSpPr/>
          <p:nvPr/>
        </p:nvSpPr>
        <p:spPr>
          <a:xfrm>
            <a:off x="3368520" y="263700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Rectangle 331"/>
          <p:cNvSpPr/>
          <p:nvPr/>
        </p:nvSpPr>
        <p:spPr>
          <a:xfrm>
            <a:off x="3368520" y="362592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Rectangle 333"/>
          <p:cNvSpPr/>
          <p:nvPr/>
        </p:nvSpPr>
        <p:spPr>
          <a:xfrm>
            <a:off x="4784760" y="3639960"/>
            <a:ext cx="8712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Rectangle 337"/>
          <p:cNvSpPr/>
          <p:nvPr/>
        </p:nvSpPr>
        <p:spPr>
          <a:xfrm>
            <a:off x="3368520" y="508464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Rectangle 338"/>
          <p:cNvSpPr/>
          <p:nvPr/>
        </p:nvSpPr>
        <p:spPr>
          <a:xfrm>
            <a:off x="3368520" y="531036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Rectangle 340"/>
          <p:cNvSpPr/>
          <p:nvPr/>
        </p:nvSpPr>
        <p:spPr>
          <a:xfrm>
            <a:off x="3368520" y="571644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Rectangle 356"/>
          <p:cNvSpPr/>
          <p:nvPr/>
        </p:nvSpPr>
        <p:spPr>
          <a:xfrm>
            <a:off x="4794120" y="527220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ZoneTexte 87"/>
          <p:cNvSpPr/>
          <p:nvPr/>
        </p:nvSpPr>
        <p:spPr>
          <a:xfrm>
            <a:off x="3392640" y="2502000"/>
            <a:ext cx="143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edometer: 5k / day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ZoneTexte 87"/>
          <p:cNvSpPr/>
          <p:nvPr/>
        </p:nvSpPr>
        <p:spPr>
          <a:xfrm>
            <a:off x="3392640" y="3508200"/>
            <a:ext cx="1295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 Walking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ZoneTexte 87"/>
          <p:cNvSpPr/>
          <p:nvPr/>
        </p:nvSpPr>
        <p:spPr>
          <a:xfrm>
            <a:off x="3392640" y="4956120"/>
            <a:ext cx="129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15 Min post meal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edometer: 5k / day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ZoneTexte 87"/>
          <p:cNvSpPr/>
          <p:nvPr/>
        </p:nvSpPr>
        <p:spPr>
          <a:xfrm>
            <a:off x="1828800" y="2540160"/>
            <a:ext cx="1482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Tea &gt; coffe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O</a:t>
            </a: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 Soft Drinks: </a:t>
            </a:r>
            <a:r>
              <a:rPr b="1" i="1" lang="fr-FR" sz="1000" spc="-1" strike="noStrike">
                <a:solidFill>
                  <a:srgbClr val="ff0000"/>
                </a:solidFill>
                <a:latin typeface="Calibri"/>
                <a:ea typeface="Calibri"/>
              </a:rPr>
              <a:t>HFCS !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o « </a:t>
            </a:r>
            <a:r>
              <a:rPr b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Whites</a:t>
            </a: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 »:  low GI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Garlic Extract 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ZoneTexte 87"/>
          <p:cNvSpPr/>
          <p:nvPr/>
        </p:nvSpPr>
        <p:spPr>
          <a:xfrm>
            <a:off x="1798560" y="3552840"/>
            <a:ext cx="149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Water: before, during &amp; after exercise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ZoneTexte 87"/>
          <p:cNvSpPr/>
          <p:nvPr/>
        </p:nvSpPr>
        <p:spPr>
          <a:xfrm>
            <a:off x="1798560" y="4975200"/>
            <a:ext cx="129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Water, 6 glasses/day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Decrease caffein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2" name="ZoneTexte 87"/>
          <p:cNvSpPr/>
          <p:nvPr/>
        </p:nvSpPr>
        <p:spPr>
          <a:xfrm>
            <a:off x="6138720" y="3360600"/>
            <a:ext cx="1079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 </a:t>
            </a: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Jumping Rop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Gym: 90 mn/wk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ZoneTexte 87"/>
          <p:cNvSpPr/>
          <p:nvPr/>
        </p:nvSpPr>
        <p:spPr>
          <a:xfrm>
            <a:off x="6138720" y="2454120"/>
            <a:ext cx="105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ZoneTexte 99"/>
          <p:cNvSpPr/>
          <p:nvPr/>
        </p:nvSpPr>
        <p:spPr>
          <a:xfrm>
            <a:off x="7453440" y="2454120"/>
            <a:ext cx="12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Deep Breathing Ex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Stop Smoking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Rectangle 376"/>
          <p:cNvSpPr/>
          <p:nvPr/>
        </p:nvSpPr>
        <p:spPr>
          <a:xfrm>
            <a:off x="7358040" y="282240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ZoneTexte 99"/>
          <p:cNvSpPr/>
          <p:nvPr/>
        </p:nvSpPr>
        <p:spPr>
          <a:xfrm>
            <a:off x="8729640" y="2473200"/>
            <a:ext cx="1100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Meditatio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ZoneTexte 93"/>
          <p:cNvSpPr/>
          <p:nvPr/>
        </p:nvSpPr>
        <p:spPr>
          <a:xfrm>
            <a:off x="4808520" y="3508200"/>
            <a:ext cx="1081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Red wine &gt; beer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ZoneTexte 93"/>
          <p:cNvSpPr/>
          <p:nvPr/>
        </p:nvSpPr>
        <p:spPr>
          <a:xfrm>
            <a:off x="1798560" y="425448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atural Anti-Inflammatories (p.32)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ZoneTexte 99"/>
          <p:cNvSpPr/>
          <p:nvPr/>
        </p:nvSpPr>
        <p:spPr>
          <a:xfrm>
            <a:off x="8729640" y="4210200"/>
            <a:ext cx="1100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Meditatio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ZoneTexte 93"/>
          <p:cNvSpPr/>
          <p:nvPr/>
        </p:nvSpPr>
        <p:spPr>
          <a:xfrm>
            <a:off x="4808520" y="514980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Red wine &gt; spirit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ZoneTexte 87"/>
          <p:cNvSpPr/>
          <p:nvPr/>
        </p:nvSpPr>
        <p:spPr>
          <a:xfrm>
            <a:off x="6138720" y="4906800"/>
            <a:ext cx="1079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 </a:t>
            </a: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Tai Chi Chua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Gym: 90 mn/wk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ZoneTexte 99"/>
          <p:cNvSpPr/>
          <p:nvPr/>
        </p:nvSpPr>
        <p:spPr>
          <a:xfrm>
            <a:off x="7473960" y="4898880"/>
            <a:ext cx="1298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Deep Breathing Ex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Stop Smoking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Meditatio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ZoneTexte 87"/>
          <p:cNvSpPr/>
          <p:nvPr/>
        </p:nvSpPr>
        <p:spPr>
          <a:xfrm>
            <a:off x="1798560" y="5589720"/>
            <a:ext cx="129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Decrease caffein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Camomille Tea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ZoneTexte 87"/>
          <p:cNvSpPr/>
          <p:nvPr/>
        </p:nvSpPr>
        <p:spPr>
          <a:xfrm>
            <a:off x="3392640" y="5592600"/>
            <a:ext cx="1396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edometer: 10k / day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ZoneTexte 99"/>
          <p:cNvSpPr/>
          <p:nvPr/>
        </p:nvSpPr>
        <p:spPr>
          <a:xfrm>
            <a:off x="7473960" y="5661000"/>
            <a:ext cx="11700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Deep Breathing Ex. 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ZoneTexte 99"/>
          <p:cNvSpPr/>
          <p:nvPr/>
        </p:nvSpPr>
        <p:spPr>
          <a:xfrm>
            <a:off x="6138720" y="5560920"/>
            <a:ext cx="1100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Gym: 90 mn/wk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. M. R. 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ZoneTexte 99"/>
          <p:cNvSpPr/>
          <p:nvPr/>
        </p:nvSpPr>
        <p:spPr>
          <a:xfrm>
            <a:off x="8748720" y="5713560"/>
            <a:ext cx="1100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Sauna/ Hamma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. M. R. 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Rectangle 390"/>
          <p:cNvSpPr/>
          <p:nvPr/>
        </p:nvSpPr>
        <p:spPr>
          <a:xfrm>
            <a:off x="1779480" y="433548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Rectangle 391"/>
          <p:cNvSpPr/>
          <p:nvPr/>
        </p:nvSpPr>
        <p:spPr>
          <a:xfrm>
            <a:off x="7400880" y="577548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Rectangle 392"/>
          <p:cNvSpPr/>
          <p:nvPr/>
        </p:nvSpPr>
        <p:spPr>
          <a:xfrm>
            <a:off x="8688240" y="434196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Rectangle 393"/>
          <p:cNvSpPr/>
          <p:nvPr/>
        </p:nvSpPr>
        <p:spPr>
          <a:xfrm>
            <a:off x="8683560" y="259704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42" name="Picture 1030" descr="news"/>
          <p:cNvPicPr/>
          <p:nvPr/>
        </p:nvPicPr>
        <p:blipFill>
          <a:blip r:embed="rId9"/>
          <a:stretch/>
        </p:blipFill>
        <p:spPr>
          <a:xfrm>
            <a:off x="244440" y="2637000"/>
            <a:ext cx="403200" cy="49356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3" descr="http://nerissairving.com/wp-content/uploads/2011/04/health-heart-fitness-1675u0q-150x150.jpg"/>
          <p:cNvPicPr/>
          <p:nvPr/>
        </p:nvPicPr>
        <p:blipFill>
          <a:blip r:embed="rId10"/>
          <a:stretch/>
        </p:blipFill>
        <p:spPr>
          <a:xfrm>
            <a:off x="272880" y="3375000"/>
            <a:ext cx="392400" cy="760320"/>
          </a:xfrm>
          <a:prstGeom prst="rect">
            <a:avLst/>
          </a:prstGeom>
          <a:ln w="0">
            <a:noFill/>
          </a:ln>
        </p:spPr>
      </p:pic>
      <p:sp>
        <p:nvSpPr>
          <p:cNvPr id="444" name="Rectangle 263"/>
          <p:cNvSpPr/>
          <p:nvPr/>
        </p:nvSpPr>
        <p:spPr>
          <a:xfrm>
            <a:off x="6089760" y="4705200"/>
            <a:ext cx="8712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Rectangle 282"/>
          <p:cNvSpPr/>
          <p:nvPr/>
        </p:nvSpPr>
        <p:spPr>
          <a:xfrm>
            <a:off x="7386480" y="548784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6" name="ZoneTexte 93"/>
          <p:cNvSpPr/>
          <p:nvPr/>
        </p:nvSpPr>
        <p:spPr>
          <a:xfrm>
            <a:off x="4808520" y="572292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o Alcohol &gt; 22h00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Rectangle 310"/>
          <p:cNvSpPr/>
          <p:nvPr/>
        </p:nvSpPr>
        <p:spPr>
          <a:xfrm>
            <a:off x="1779480" y="307656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48" name="Groupe 1"/>
          <p:cNvGrpSpPr/>
          <p:nvPr/>
        </p:nvGrpSpPr>
        <p:grpSpPr>
          <a:xfrm>
            <a:off x="4794120" y="2565360"/>
            <a:ext cx="87480" cy="574560"/>
            <a:chOff x="4794120" y="2565360"/>
            <a:chExt cx="87480" cy="574560"/>
          </a:xfrm>
        </p:grpSpPr>
        <p:sp>
          <p:nvSpPr>
            <p:cNvPr id="449" name="Rectangle 308"/>
            <p:cNvSpPr/>
            <p:nvPr/>
          </p:nvSpPr>
          <p:spPr>
            <a:xfrm>
              <a:off x="4794120" y="2565360"/>
              <a:ext cx="87480" cy="101520"/>
            </a:xfrm>
            <a:prstGeom prst="rect">
              <a:avLst/>
            </a:pr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endParaRPr b="1" i="1" lang="en-US" sz="4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50" name="Rectangle 309"/>
            <p:cNvSpPr/>
            <p:nvPr/>
          </p:nvSpPr>
          <p:spPr>
            <a:xfrm>
              <a:off x="4794120" y="2720880"/>
              <a:ext cx="87480" cy="101520"/>
            </a:xfrm>
            <a:prstGeom prst="rect">
              <a:avLst/>
            </a:pr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endParaRPr b="1" i="1" lang="en-US" sz="4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51" name="Rectangle 310"/>
            <p:cNvSpPr/>
            <p:nvPr/>
          </p:nvSpPr>
          <p:spPr>
            <a:xfrm>
              <a:off x="4794120" y="2886120"/>
              <a:ext cx="87480" cy="101520"/>
            </a:xfrm>
            <a:prstGeom prst="rect">
              <a:avLst/>
            </a:pr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endParaRPr b="1" i="1" lang="en-US" sz="4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52" name="Rectangle 310"/>
            <p:cNvSpPr/>
            <p:nvPr/>
          </p:nvSpPr>
          <p:spPr>
            <a:xfrm>
              <a:off x="4794120" y="3038400"/>
              <a:ext cx="87480" cy="101520"/>
            </a:xfrm>
            <a:prstGeom prst="rect">
              <a:avLst/>
            </a:prstGeom>
            <a:noFill/>
            <a:ln cap="rnd"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t">
              <a:spAutoFit/>
            </a:bodyPr>
            <a:p>
              <a:endParaRPr b="1" i="1" lang="en-US" sz="4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53" name="Rectangle 265"/>
          <p:cNvSpPr/>
          <p:nvPr/>
        </p:nvSpPr>
        <p:spPr>
          <a:xfrm>
            <a:off x="4794120" y="5848200"/>
            <a:ext cx="87480" cy="10188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Rectangle 340"/>
          <p:cNvSpPr/>
          <p:nvPr/>
        </p:nvSpPr>
        <p:spPr>
          <a:xfrm>
            <a:off x="1774800" y="5943600"/>
            <a:ext cx="87480" cy="101520"/>
          </a:xfrm>
          <a:prstGeom prst="rect">
            <a:avLst/>
          </a:prstGeom>
          <a:noFill/>
          <a:ln cap="rnd"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t">
            <a:sp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McGannon</dc:creator>
  <dc:description/>
  <dc:language>en-US</dc:language>
  <cp:lastModifiedBy>MON PC</cp:lastModifiedBy>
  <cp:lastPrinted>2011-05-23T13:05:34Z</cp:lastPrinted>
  <dcterms:modified xsi:type="dcterms:W3CDTF">2011-06-01T09:58:36Z</dcterms:modified>
  <cp:revision>188</cp:revision>
  <dc:subject/>
  <dc:title>Future of Medicine</dc:title>
</cp:coreProperties>
</file>